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B737-3744-4D13-AD76-A0BDD0C30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4C79-6F88-4FEE-8953-FEEA730B1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816B5-98BA-437C-8300-FB4BA6AEAE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54960"/>
            <a:ext cx="776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5737D-F9FF-4A1D-9754-EDDC77C970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BDC8B-9F62-4E26-AB1C-E47BEEC32A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4475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4475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549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39549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39549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76AE3-5643-42A8-8E79-9A1CF7E436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7E061-D956-4BBF-9F38-686600C834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29D4B-7E0C-4718-B0BC-37D7435A80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B9E5A-F28D-43F9-A318-A261479B33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4A989-4760-401D-9251-E30EC3B93B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0F593-9AB0-4239-8F45-C8F1EFDA4C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64007-8AD1-4027-A8DD-BDBECCBE97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8FBFD-F1FD-422E-A1B4-3CF3508DB8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F996D-8687-4557-9C2B-DE5E52E715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668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ED092-80F5-416E-940A-419AB96CB8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3954960"/>
            <a:ext cx="776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D7D8D-CCD4-4D22-899D-8D029BD788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440" y="3954960"/>
            <a:ext cx="776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CE3A6-CC24-4E93-9F3C-4C405A9904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668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780F0-C5DD-4D2C-A41E-CB3A360977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2000" y="14475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8920" y="14475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440" y="39549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2000" y="39549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8920" y="39549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B131F-64F0-4E01-8E0A-A51AF0CDEE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53F5C-656C-42D9-8CDD-4B367CECCA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61318-F766-4491-86DD-FE90D11F76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858C1-5CE8-48C1-91C7-EEE4DD58D5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A5B35-1A63-4862-8DFA-1FAEDDC4CF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C3A62-00DA-461E-972D-A8291CB521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24C8D-C65E-4603-A6EB-827CE580AB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54960"/>
            <a:ext cx="776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5BED0-2DA6-4B38-A447-9D73CE7ED9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AR FINAL wZero"/>
          <p:cNvPicPr/>
          <p:nvPr/>
        </p:nvPicPr>
        <p:blipFill>
          <a:blip r:embed="rId2"/>
          <a:stretch/>
        </p:blipFill>
        <p:spPr>
          <a:xfrm>
            <a:off x="0" y="0"/>
            <a:ext cx="9144000" cy="963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6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96C3-087E-4078-851C-8493F7FDEB00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9840" y="6490440"/>
            <a:ext cx="13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67f"/>
                </a:solidFill>
                <a:latin typeface="Trebuchet MS"/>
              </a:rPr>
              <a:t>www.bea.g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69840" y="6490440"/>
            <a:ext cx="13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67f"/>
                </a:solidFill>
                <a:latin typeface="Trebuchet MS"/>
              </a:rPr>
              <a:t>www.bea.g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6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7041-0021-4E41-B4AA-8F140FF686A8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447560"/>
            <a:ext cx="8534160" cy="13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nstantia"/>
              </a:rPr>
              <a:t>Global Manufacturing and   Measurement Issues Raised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onstantia"/>
              </a:rPr>
              <a:t>by the iPhone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123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486400" y="434340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1066680" y="40384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Robert E. Yuskav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Jennifer Ribar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May 6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119A-AB79-48FA-A56D-F127263AAB98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International Standards:  SNA and BPM6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New treatment of “goods-for-processing” would address some of the concerns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12120" indent="-31212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When ownership does not change and goods are returned after processing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1" marL="676080" indent="-25992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Gross merchandise trade flows are excluded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676080" indent="-25992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Value of the processing service included as services trade measured by the processing fee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676080" indent="-25992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No impact on overall trade balance but it shifts the balance between goods and service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CF99-1012-4C91-9E03-E79B6DFC52FF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Impact of Change in Treatment 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Chinese Trade Statistic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80880" y="1143000"/>
          <a:ext cx="8305920" cy="5038560"/>
        </p:xfrm>
        <a:graphic>
          <a:graphicData uri="http://schemas.openxmlformats.org/drawingml/2006/table">
            <a:tbl>
              <a:tblPr/>
              <a:tblGrid>
                <a:gridCol w="4280040"/>
                <a:gridCol w="1030320"/>
                <a:gridCol w="1824120"/>
                <a:gridCol w="1171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$ in billions, 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BPM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Adjust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BPM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Exports of goo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1,2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-6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6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Imports of goo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9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-3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5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Balance on goo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3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-2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Exports of servi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1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2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3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Imports of servi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1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1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Balance on servi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-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2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2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Balance on goods and servi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3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3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Current account bal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3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3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Text Box 65"/>
          <p:cNvSpPr/>
          <p:nvPr/>
        </p:nvSpPr>
        <p:spPr>
          <a:xfrm>
            <a:off x="304920" y="617220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urce: IMF, BOPCOM-08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C34E-69BE-4501-AB5C-DEF4298D73D3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International Standards:  SNA and BPM6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Major challenges for new treatment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1" marL="713160" indent="-27432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No indication of goods-for-processing in customs data used for merchandise trade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13160" indent="-27432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Companies have indicated they cannot identify such transactions in their record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29040" indent="-32904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Other countries face similar issues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29040" indent="-32904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BEA is working with Census to develop measures based on matching trade data with enterprise information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D2B3-49C8-4F37-A587-E6D4B051CFE5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New Standards:  Merchanting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Goods that are purchased and resold but do not cross the border (e.g., petroleum)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12120" indent="-31212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Currently the gross margin on these sales is recorded by BEA as trade in services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12120" indent="-31212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Under BPM6 goods sales will be recorded as positive goods exports and purchases will be recorded as negative goods exports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12120" indent="-31212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Some global manufacturing activities could be classified in this category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Factoryless Manufacturer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Outsources all the manufacturing transformation activities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Arranges for all required capital, labor, and material inputs required to make a good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Controls the production process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Owns and sells the final product produced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CA00-07E5-4685-8845-83C02D1ED855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nstantia"/>
              </a:rPr>
              <a:t>Industry Classification of Factoryless Manufacturing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No clear guidance in North American Industry Classification (NAICS) 2007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Can lead to inconsistent classification of establishments in official statistics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Units may be classified to manufacturing or wholesale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Recommend explicit guidance to classify in the manufacturing sector for NAICS 2012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36" name="Slide Number Placeholder 1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7BA1-A50F-4029-B119-900653614743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Implications of NAICS 2012 guidance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Expands traditional definition of manufacturing beyond plants, factories, or mill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Impacts source data used in BEA’s accounts such as: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Value of industry and product shipments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Material costs and other expenses for manufacturing industries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Value of sales for wholesale industries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Price indexes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Impacts productivity measures as well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39" name="Slide Number Placeholder 1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AA38-A404-4FD8-A6B0-87BFE41A9760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Factoryless Manufacturers and Offshoring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Under ‘Ideal’ scenario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Shipments of factoryless manufacturers are included in domestic shipments 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Important to record the correct international trade flow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Implementation of “goods-for-processing” would address some of the concerns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Overseas contract manufacturer providing a service and not a good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42" name="Slide Number Placeholder 1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14BC-9DFB-4EE3-AE74-E12F49CFC56C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nstantia"/>
              </a:rPr>
              <a:t>Process and Timeline for NAICS Implementation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Interagency subcommittee made up of members from various program offices of the Census Bureau, the BLS, and the BEA to ensure consistent implementation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39480" indent="-339480"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Because of the complexity of the change and the long planning process involved implementation not expected until 2017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39480" indent="-339480"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Work has started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35480" indent="-28296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Additional survey questions added as test cases to identify contract manufacturing activities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45" name="Slide Number Placeholder 1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CFC3-3D16-4C55-90B6-E79F9800C708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263E-92AB-4AFD-8D9A-7EEF7C484DE4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Questions for the Committee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spcAft>
                <a:spcPts val="601"/>
              </a:spcAft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Do the new international standards provide more relevant trade measures and should their implementation be a high BEA priority?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18960" indent="-318960">
              <a:spcBef>
                <a:spcPts val="601"/>
              </a:spcBef>
              <a:spcAft>
                <a:spcPts val="601"/>
              </a:spcAft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Do the new standards go far enough or should BEA also consider developing value-added input-output based trade measures?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18960" indent="-318960">
              <a:spcBef>
                <a:spcPts val="601"/>
              </a:spcBef>
              <a:spcAft>
                <a:spcPts val="601"/>
              </a:spcAft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Do you agree with the recommendations for classifying factoryless manufacturers and the resulting implications for statistics?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AC77-DDA5-477B-8DFD-16373687D393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Globalization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International fragmentation of production across borders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Vertical specialization trade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Global sourcing of parts and material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Increased trade in intermediate product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Much of this activity occurs within multinational companies but not al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iPhone is often cited as an example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Object 8"/>
          <p:cNvGraphicFramePr/>
          <p:nvPr/>
        </p:nvGraphicFramePr>
        <p:xfrm>
          <a:off x="914400" y="1066680"/>
          <a:ext cx="7467480" cy="546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066680"/>
                    <a:ext cx="7467480" cy="54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Slide Number Placeholder 3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7E98-D6EF-4F9A-B534-1775E856E300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U.S. Trade with China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838080" y="16002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$ in bill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92D4-162C-4AF6-A307-A19120DFC3A1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Key Facts from iPhone Study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Assembled in China using parts from around the world and U.S. technology 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25800" indent="-32580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Materials imported by China from a variety of countries including the U.S.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25800" indent="-32580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Wholesale value included in U.S. import trade statistics; subtracted from GDP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25800" indent="-32580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Gross value assigned entirely to country of origin or destination; affects bilateral balances but GDP is properly measured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C33E-9462-4D37-92C3-BBC4171393FD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iPhone Study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066680" y="1600200"/>
          <a:ext cx="6934320" cy="4457880"/>
        </p:xfrm>
        <a:graphic>
          <a:graphicData uri="http://schemas.openxmlformats.org/drawingml/2006/table">
            <a:tbl>
              <a:tblPr/>
              <a:tblGrid>
                <a:gridCol w="5713560"/>
                <a:gridCol w="1220760"/>
              </a:tblGrid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Value of inputs from U.S. shipped to China (included in U.S. export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$10.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Value of inputs shipped to China from other count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$161.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Manufacturing costs to Ch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$6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Wholesale value of iPhone shipped to U.S. (included in U.S. import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$1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Retail value of iPhone sold in U.S. stores (included in PC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$4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C451-7708-4AB3-B11D-6CC2D548A468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Issues with Current Measures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Gross flows do not reflect </a:t>
            </a:r>
            <a:r>
              <a:rPr b="0" i="1" lang="en-US" sz="3200" spc="-1" strike="noStrike">
                <a:solidFill>
                  <a:srgbClr val="00267f"/>
                </a:solidFill>
                <a:latin typeface="Constantia"/>
              </a:rPr>
              <a:t>value added</a:t>
            </a: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 from each country in the supply chain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15360" indent="-31536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Large deficits/surpluses misleading if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1" marL="683280" indent="-26280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Domestic factor content of imports high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683280" indent="-26280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Foreign factor content of exports high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15360" indent="-31536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Distorts significance of bilateral balances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15360" indent="-31536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Still provide useful direct trade measures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1" marL="683280" indent="-26280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Well reported and consistently measured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683280" indent="-26280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Provides accurate measures of net exports/GDP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6EF9-C5F7-4900-AD6C-0F1F5CB831F5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Value Added (VA) Approach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Allocates gross flows to producing and supplying countries based on VA content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15360" indent="-31536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Measures often based on multipliers from inter-region world input-output tables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15360" indent="-31536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Linkages between countries are based on origin/destination data in trade statistics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15360" indent="-31536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Requires assumptions about import use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1" marL="683280" indent="-26280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Microdata research now underway can help to improve import use table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AD96-93C4-40A6-B2A0-AC2B81C27BA7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Issues with Value Added Approach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Very difficult to directly measure due to limited information in company records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1" marL="676080" indent="-25992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Firms may not know sources of input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12120" indent="-31212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National Academy of Sciences (2006)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1" marL="676080" indent="-25992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Impractical to directly measure foreign and domestic content of exports and import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676080" indent="-25992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Questioned the validity of the I-O approach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12120" indent="-31212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BEA will contact industry and supply chain experts to learn more about using bar codes and electronic tags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5F46-E0F2-4F0D-8AEA-707203A8F729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VA Approach and the iPhone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VA approach for the iPhone would result in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Smaller U.S. trade deficit with China 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Larger deficits with countries that supply inputs to China such as Japan, Germany, and South Korea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VA approach could be useful as a supplementary or satellite system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BEA has taken this approach before with statistics on services by foreign affiliate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Would require advances in the accuracy of linked world input-output table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17:08:04Z</dcterms:created>
  <dc:creator>U.S. Department of Commerce</dc:creator>
  <dc:description/>
  <dc:language>en-US</dc:language>
  <cp:lastModifiedBy>Windows User</cp:lastModifiedBy>
  <dcterms:modified xsi:type="dcterms:W3CDTF">2011-05-04T14:37:23Z</dcterms:modified>
  <cp:revision>1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54004206</vt:r8>
  </property>
  <property fmtid="{D5CDD505-2E9C-101B-9397-08002B2CF9AE}" pid="3" name="_AuthorEmail">
    <vt:lpwstr>Gianna.Marrone@bea.gov</vt:lpwstr>
  </property>
  <property fmtid="{D5CDD505-2E9C-101B-9397-08002B2CF9AE}" pid="4" name="_AuthorEmailDisplayName">
    <vt:lpwstr>Marrone, Gianna</vt:lpwstr>
  </property>
  <property fmtid="{D5CDD505-2E9C-101B-9397-08002B2CF9AE}" pid="5" name="_EmailSubject">
    <vt:lpwstr>Presentation to be posted for BEA Advisory Committee meeting</vt:lpwstr>
  </property>
  <property fmtid="{D5CDD505-2E9C-101B-9397-08002B2CF9AE}" pid="6" name="_NewReviewCycle">
    <vt:lpwstr/>
  </property>
</Properties>
</file>