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B4F5-0A37-4FAE-9E39-93B859736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174B-3663-4EAF-A8F8-E301AAFFD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D407-207E-4D9D-AA22-C5A31EE99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E525D-589B-4E40-937A-9EC21A2DC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63F9-B4AE-4B66-A8E1-2A1B039C8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6D90-9A38-4815-A3C4-C95155DBE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1F425-AF02-4B8E-9B26-0D0542B974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9B8EE-0F54-4264-8F32-810CC39B39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3E69-D747-43E6-9310-915EFFBA20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F82CA-0565-4318-9F0E-5AFF116FBA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E9C4A-9C35-485D-A503-6E8CACC4DD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64D8-C299-4572-A8FC-EF7F5070F3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308D-9D65-4128-8E93-775AB2B5FA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582C-1588-48C0-8299-B5B5A6739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1E969-2E67-42E3-9E0A-77DB541E2C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054D4-917C-458E-9EC4-2808151AA3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8F49-A098-418A-94C4-B345245CAD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3FA4-302B-4AA9-8C88-8D52B4E824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200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8920" y="14475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200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8920" y="3954960"/>
            <a:ext cx="2501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7008F-12BF-4B89-A7BC-54ACC210F9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3987-C92A-459B-8FC5-9F3252570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A265-00F1-4CC1-B934-EED20C713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208D-BF0D-464F-9F62-9630DE53C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9A50-7797-407F-91BE-EF5C30590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2247-F46B-427F-985B-F8F23D094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39549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0AE8-D8AD-4708-BA79-23B4F2DAF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447560"/>
            <a:ext cx="3791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54960"/>
            <a:ext cx="7769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1EF7-0AC7-4D00-89CA-AA8803E4D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R FINAL wZero"/>
          <p:cNvPicPr/>
          <p:nvPr/>
        </p:nvPicPr>
        <p:blipFill>
          <a:blip r:embed="rId2"/>
          <a:stretch/>
        </p:blipFill>
        <p:spPr>
          <a:xfrm>
            <a:off x="0" y="0"/>
            <a:ext cx="9144000" cy="96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85C3-8ABB-431B-99E2-012E8A509BE3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69840" y="649044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67f"/>
                </a:solidFill>
                <a:latin typeface="Trebuchet MS"/>
              </a:rPr>
              <a:t>www.be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6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C5A5-2315-4055-89B7-64E32F704625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534160" cy="13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Global Manufacturing and   Measurement Issues Raise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by the iPhone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486400" y="43434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1066680" y="403848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Robert E. Yuskav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Jennifer Ribar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ay 6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116F-5D22-4DC6-A787-58236D4BCCCF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International Standards:  SNA and BPM6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New treatment of “goods-for-processing” would address some of the concern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When ownership does not change and goods are returned after processing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Gross merchandise trade flows are excluded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Value of the processing service included as services trade measured by the processing fee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No impact on overall trade balance but it shifts the balance between goods and servic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46DF-4971-4FC0-BA06-E9C5D483149F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Impact of Change in Treatment 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hinese Trade Statistic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80880" y="1143000"/>
          <a:ext cx="8305920" cy="5038560"/>
        </p:xfrm>
        <a:graphic>
          <a:graphicData uri="http://schemas.openxmlformats.org/drawingml/2006/table">
            <a:tbl>
              <a:tblPr/>
              <a:tblGrid>
                <a:gridCol w="4280040"/>
                <a:gridCol w="1030320"/>
                <a:gridCol w="1824120"/>
                <a:gridCol w="1171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$ in billions, 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BPM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Adjus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BPM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Exports of goo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1,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-6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6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Imports of goo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9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-3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5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Balance on goo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3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-2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Exports of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1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2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3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Imports of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Balance on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-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2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2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Balance on goods and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3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3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Current account 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3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3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65"/>
          <p:cNvSpPr/>
          <p:nvPr/>
        </p:nvSpPr>
        <p:spPr>
          <a:xfrm>
            <a:off x="304920" y="61722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: IMF, BOPCOM-08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0CD9-1CCA-4898-89B7-A6F588BB8FEC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International Standards:  SNA and BPM6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Major challenges for new treatment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No indication of goods-for-processing in customs data used for merchandise trade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13160" indent="-2743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Companies have indicated they cannot identify such transactions in their record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29040" indent="-32904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Other countries face similar issue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29040" indent="-32904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BEA is working with Census to develop measures based on matching trade data with enterprise information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3BD2-C94B-4A57-8B0A-EC22197BD080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New Standards:  Merchanting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Goods that are purchased and resold but do not cross the border (e.g., petroleum)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urrently the gross margin on these sales is recorded by BEA as trade in service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Under BPM6 goods sales will be recorded as positive goods exports and purchases will be recorded as negative goods export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ome global manufacturing activities could be classified in this category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Factoryless Manufacturer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Outsources all the manufacturing transformation activitie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Arranges for all required capital, labor, and material inputs required to make a good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ontrols the production proces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Owns and sells the final product produced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2A49-D70C-4A15-9EEA-908971468E1E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Industry Classification of Factoryless Manufacturing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No clear guidance in North American Industry Classification (NAICS) 2007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Can lead to inconsistent classification of establishments in official statistic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Units may be classified to manufacturing or wholesale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Recommend explicit guidance to classify in the manufacturing sector for NAICS 2012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36" name="Slide Number Placeholder 1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A6A8-18C4-4775-AA4F-020AC683BB67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Implications of NAICS 2012 guidance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Expands traditional definition of manufacturing beyond plants, factories, or mill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mpacts source data used in BEA’s accounts such as: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Value of industry and product shipment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Material costs and other expenses for manufacturing industrie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Value of sales for wholesale industrie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Price indexe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mpacts productivity measures as well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39" name="Slide Number Placeholder 1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5D64-D0E9-446F-95C1-8961A539856E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Factoryless Manufacturers and Offshoring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Under ‘Ideal’ scenario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Shipments of factoryless manufacturers are included in domestic shipments 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mportant to record the correct international trade flow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Implementation of “goods-for-processing” would address some of the concern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Overseas contract manufacturer providing a service and not a good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42" name="Slide Number Placeholder 1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41AD-FAC7-4139-9589-C94962577402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onstantia"/>
              </a:rPr>
              <a:t>Process and Timeline for NAICS Implementation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nteragency subcommittee made up of members from various program offices of the Census Bureau, the BLS, and the BEA to ensure consistent implementation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39480" indent="-3394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Because of the complexity of the change and the long planning process involved implementation not expected until 2017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39480" indent="-339480">
              <a:spcBef>
                <a:spcPts val="700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Work has started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35480" indent="-282960">
              <a:spcBef>
                <a:spcPts val="601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7f"/>
                </a:solidFill>
                <a:latin typeface="Constantia"/>
              </a:rPr>
              <a:t>Additional survey questions added as test cases to identify contract manufacturing activities</a:t>
            </a:r>
            <a:endParaRPr b="0" lang="en-US" sz="2400" spc="-1" strike="noStrike">
              <a:solidFill>
                <a:srgbClr val="00267f"/>
              </a:solidFill>
              <a:latin typeface="Constantia"/>
            </a:endParaRPr>
          </a:p>
        </p:txBody>
      </p:sp>
      <p:sp>
        <p:nvSpPr>
          <p:cNvPr id="145" name="Slide Number Placeholder 1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0523-D6B7-434B-832C-53D3A67B7C7C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F333-2D6E-4334-A5D1-8196B9873CFF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Questions for the Committee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Do the new international standards provide more relevant trade measures and should their implementation be a high BEA priority?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Do the new standards go far enough or should BEA also consider developing value-added input-output based trade measures?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Do you agree with the recommendations for classifying factoryless manufacturers and the resulting implications for statistics?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36F5-0062-41EC-91DB-7DC7ECDA32A3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Globalization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76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International fragmentation of production across border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Vertical specialization trade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Global sourcing of parts and material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ncreased trade in intermediate product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Much of this activity occurs within multinational companies but not all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iPhone is often cited as an example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8"/>
          <p:cNvGraphicFramePr/>
          <p:nvPr/>
        </p:nvGraphicFramePr>
        <p:xfrm>
          <a:off x="914400" y="1066680"/>
          <a:ext cx="7467480" cy="546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066680"/>
                    <a:ext cx="746748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788B-6872-4A48-9E51-C28A79AA56B6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U.S. Trade with China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838080" y="16002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$ in bill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DC99-7F94-48D8-B42A-12EA58B3B7AC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Key Facts from iPhone Study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Assembled in China using parts from around the world and U.S. technology 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Materials imported by China from a variety of countries including the U.S.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Wholesale value included in U.S. import trade statistics; subtracted from GDP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25800" indent="-32580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Gross value assigned entirely to country of origin or destination; affects bilateral balances but GDP is properly measured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1024-16E2-4A79-A1C1-D8DABF015547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iPhone Study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066680" y="1600200"/>
          <a:ext cx="6934320" cy="4457880"/>
        </p:xfrm>
        <a:graphic>
          <a:graphicData uri="http://schemas.openxmlformats.org/drawingml/2006/table">
            <a:tbl>
              <a:tblPr/>
              <a:tblGrid>
                <a:gridCol w="5713560"/>
                <a:gridCol w="1220760"/>
              </a:tblGrid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Value of inputs from U.S. shipped to China (included in U.S. export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$1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Value of inputs shipped to China from other count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$161.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Manufacturing costs to Ch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$6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Wholesale value of iPhone shipped to U.S. (included in U.S. import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$1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Retail value of iPhone sold in U.S. stores (included in PC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267f"/>
                          </a:solidFill>
                          <a:latin typeface="Constantia"/>
                        </a:rPr>
                        <a:t>$4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F15E-302E-48C6-A281-A8C2B54C0B9C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Issues with Current Measures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Gross flows do not reflect </a:t>
            </a:r>
            <a:r>
              <a:rPr b="0" i="1" lang="en-US" sz="3200" spc="-1" strike="noStrike">
                <a:solidFill>
                  <a:srgbClr val="00267f"/>
                </a:solidFill>
                <a:latin typeface="Constantia"/>
              </a:rPr>
              <a:t>value added</a:t>
            </a: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 from each country in the supply chain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Large deficits/surpluses misleading if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Domestic factor content of imports high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Foreign factor content of exports high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Distorts significance of bilateral balance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Still provide useful direct trade measure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Well reported and consistently measured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Provides accurate measures of net exports/GDP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C7E5-D2D3-4819-8671-2EAD5BC16B29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Value Added (VA) Approach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Allocates gross flows to producing and supplying countries based on VA content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Measures often based on multipliers from inter-region world input-output table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Linkages between countries are based on origin/destination data in trade statistic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marL="315360" indent="-31536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Requires assumptions about import use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83280" indent="-26280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Microdata research now underway can help to improve import use tabl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7E35-1B7F-4871-9AD0-0C728B56D931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Issues with Value Added Approach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Very difficult to directly measure due to limited information in company record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Firms may not know sources of input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National Academy of Sciences (2006)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Impractical to directly measure foreign and domestic content of exports and import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Questioned the validity of the I-O approach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2120" indent="-312120"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BEA will contact industry and supply chain experts to learn more about using bar codes and electronic tags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8534520" y="6477120"/>
            <a:ext cx="380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7533-47EA-43B5-B7C3-CD470E62DE62}" type="slidenum">
              <a:rPr b="0" lang="en-US" sz="1200" spc="-1" strike="noStrike">
                <a:solidFill>
                  <a:srgbClr val="0026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Constantia"/>
              </a:rPr>
              <a:t>VA Approach and the iPhone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VA approach for the iPhone would result in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Smaller U.S. trade deficit with China 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Larger deficits with countries that supply inputs to China such as Japan, Germany, and South Korea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69200"/>
              </a:buClr>
              <a:buFont typeface="Trebuchet M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7f"/>
                </a:solidFill>
                <a:latin typeface="Constantia"/>
              </a:rPr>
              <a:t>VA approach could be useful as a supplementary or satellite system</a:t>
            </a:r>
            <a:endParaRPr b="0" lang="en-US" sz="32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BEA has taken this approach before with statistics on services by foreign affiliat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c69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7f"/>
                </a:solidFill>
                <a:latin typeface="Constantia"/>
              </a:rPr>
              <a:t>Would require advances in the accuracy of linked world input-output tables</a:t>
            </a:r>
            <a:endParaRPr b="0" lang="en-US" sz="2800" spc="-1" strike="noStrike">
              <a:solidFill>
                <a:srgbClr val="00267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17:08:04Z</dcterms:created>
  <dc:creator>U.S. Department of Commerce</dc:creator>
  <dc:description/>
  <dc:language>en-US</dc:language>
  <cp:lastModifiedBy>Windows User</cp:lastModifiedBy>
  <dcterms:modified xsi:type="dcterms:W3CDTF">2011-05-04T14:37:23Z</dcterms:modified>
  <cp:revision>1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54004206</vt:r8>
  </property>
  <property fmtid="{D5CDD505-2E9C-101B-9397-08002B2CF9AE}" pid="3" name="_AuthorEmail">
    <vt:lpwstr>Gianna.Marrone@bea.gov</vt:lpwstr>
  </property>
  <property fmtid="{D5CDD505-2E9C-101B-9397-08002B2CF9AE}" pid="4" name="_AuthorEmailDisplayName">
    <vt:lpwstr>Marrone, Gianna</vt:lpwstr>
  </property>
  <property fmtid="{D5CDD505-2E9C-101B-9397-08002B2CF9AE}" pid="5" name="_EmailSubject">
    <vt:lpwstr>Presentation to be posted for BEA Advisory Committee meeting</vt:lpwstr>
  </property>
  <property fmtid="{D5CDD505-2E9C-101B-9397-08002B2CF9AE}" pid="6" name="_NewReviewCycle">
    <vt:lpwstr/>
  </property>
</Properties>
</file>