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9472-B390-46DE-8D9D-8531B704B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0402-3FCF-48D7-BF92-37459DC23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EF9A-00A0-45CB-A814-01B530133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E327-ED94-4247-8E12-596969DBA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11450-B4E3-48F1-987C-05FB9B71FE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6589-B816-4BE7-ABA8-FC3C5537A0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519B-EC97-456D-A7EA-7425422042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768B-4609-4953-9D14-646F8B9180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D15EE-4258-47F5-9312-44674B06CF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3CC6-9DE5-46B3-B391-B4F88E77E2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4E6C-BBBA-422F-B6C3-7A3C24BBE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A53B-E30A-4954-8627-89940E4C2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05D9-30CC-4061-9285-752560F02F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B2B8-3566-4705-A74A-935FF31CCE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EC2E-48EE-41A2-9771-ED4E8AC6B4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184C-EB53-4C97-BBF7-C0160D8742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1C9B-7F4D-4508-B371-AAC6B3A39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10ED-4AB6-49C7-8781-F4B96B78C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6458-35A5-4FB0-9A31-0B6AF5873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D347-2341-43FA-B471-4423FCBF4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9DAF-E505-400A-A492-9870FF004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CC45-6A55-4B57-A25F-5589C66D2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D0C9-B795-4002-863F-5E240C113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4200-2AA5-462D-BD1B-D34B86606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747A-C17F-4DBC-98C6-6FB1C4A74379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3559-A25F-4D01-B970-AC92ADD1F1AF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2" marL="914400" algn="ctr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3" marL="13716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4" marL="18288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806480"/>
            <a:ext cx="85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Update on NIP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Projects and Plans</a:t>
            </a:r>
            <a:endParaRPr b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952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Brent Mou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5429160"/>
            <a:ext cx="769608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EA Advisor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Washington,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May 6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2013 NIPA Comprehensive Revision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Will incorporate the 2007 Benchmark Input-Output Accounts and other benchmark source data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onceptual revisions based on the recent update of international guidelines: </a:t>
            </a:r>
            <a:r>
              <a:rPr b="0" i="1" lang="en-US" sz="2400" spc="-1" strike="noStrike">
                <a:solidFill>
                  <a:srgbClr val="00267f"/>
                </a:solidFill>
                <a:latin typeface="Constantia"/>
              </a:rPr>
              <a:t>System of National Accounts 2008 (SNA)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onceptual changes currently planned for 2013: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Capitalizing research and development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Capitalizing entertainment, literary, and artistic original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Accrual measures for defined-benefit pension plan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Improved measures of financial service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New approach for measuring the costs of ownership transfer. 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7363-5A13-4F25-874F-A83195A852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apitalizing research and developmen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BEA’s R&amp;D satellite account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Work began in 2004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Latest results (December 2010 </a:t>
            </a:r>
            <a:r>
              <a:rPr b="0" i="1" lang="en-US" sz="2400" spc="-1" strike="noStrike">
                <a:solidFill>
                  <a:srgbClr val="00267f"/>
                </a:solidFill>
                <a:latin typeface="Constantia"/>
              </a:rPr>
              <a:t>Survey</a:t>
            </a: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) show GDP for 2007 would be raised $396.3 billion (or 2.8 percent) by treating R&amp;D as investment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Steps toward treating R&amp;D as investment in the NIPAs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Prices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apital stock and depreciation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Business income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Government spending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Quarterly investment estimate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27FB-4EC1-4119-BB9F-A79516F999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Entertainment, literary and artistic originals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Original films, sound recordings, manuscripts, etc., that can be used for the production and sale of copie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NA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 recommends that they be capitalized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BEA staff (especially Rachel Soloveichik) are developing estimates for several types of originals, including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Motion pictures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Television programs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Music compositions and recordings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Book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5EFA-14DD-4EA9-9BDA-53C647118A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Defined benefit pension plan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urrent NIPA treatment: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Employer contributions are compensation.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nterest and dividends received by pension funds are personal income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Problems with current treatment: 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Underfunded and unfunded pension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Volatility of contributions.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Disconnect with economic principle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186B-6B48-46F0-91C2-A7093B07EA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New approach to pension plan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NA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 recommends accrual estimates based on actuarial estimate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Article in August 2009 </a:t>
            </a: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urvey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 (Reinsdorf &amp; Lenze) shows how accrual approach can be applied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For private plans – accrual approach results in less volatility in compensation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Larger effects for government plans (because of underfunding)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Lower compensation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Higher interest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BE15-E902-4C18-B73A-2C31F119F4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Measures of financial service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For financial services furnished without payment, expected credit losses will be excluded from borrower service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Avoid spurious volatility in splitting total financial services without payment between depositor and borrower service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Extend the reference rate approach (currently used for commercial banks) to thrift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D07A-7BBD-410D-97BE-8E24BCE341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osts of ownership transfer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Real estate brokers commissions are currently classified as fixed investment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The revised </a:t>
            </a: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NA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 clarified the scope of ownership transfer costs and provides a more consistent accounting of how they should be reflected in measures of capital stock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Depreciate costs of acquiring an asset over the period the asset is expected to be held by the purchaser (rather than over the whole life of the asset)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7C56-C805-4025-AE9A-4E347A959C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Outlin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Overview of recent NIPA-related projects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Plans for the 2011 NIPA annual revision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Plans for the 2013 comprehensive NIPA revision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4B95-7944-4E48-850A-1E4EB1DB3F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Tracking the economy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Tracking the recession and recovery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hanges in government programs and tax policie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Web pages on “Federal Recovery Programs and BEA Statistics.”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ntegrated macroeconomic accoun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An integrated presentation of the NIPAs and the flow of funds account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Quarterly and annual estimate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Joint release on BEA and FRB Web site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Plans to provide additional information for several financial subsectors. 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D07A-88B2-48DB-856A-BB1064D961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Expanding scop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BEA’s first-ever territorial GDP estimat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Released in 2010 and updated in 2011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American Samoa, the Commonwealth of the Northern Mariana Islands, Guam, and the U.S. Virgin Island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Reconciliation of health care expenditures in the National Health Accounts and in GDP (September 2010 </a:t>
            </a:r>
            <a:r>
              <a:rPr b="0" i="1" lang="en-US" sz="3200" spc="-1" strike="noStrike">
                <a:solidFill>
                  <a:srgbClr val="00267f"/>
                </a:solidFill>
                <a:latin typeface="Constantia"/>
              </a:rPr>
              <a:t>Survey of Current Business</a:t>
            </a: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)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943E-378E-4C89-89DE-86D1075095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Documentation:  NIPA handbook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Concepts and Methods of the U.S. National Income and Product Accoun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Seven chapters have been published, covering: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Concepts, source data, and estimating methods,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Personal consumption expenditures,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Private fixed investment,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Change in private inventorie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Additional chapters in progress: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Foreign trade,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Government consumption expenditures and gross investment,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Compensation of employee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8F6B-9E42-456D-89AB-E7C718A1E4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2011 NIPA Annual Revision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In the June 2008 </a:t>
            </a:r>
            <a:r>
              <a:rPr b="0" i="1" lang="en-US" sz="3200" spc="-1" strike="noStrike">
                <a:solidFill>
                  <a:srgbClr val="00267f"/>
                </a:solidFill>
                <a:latin typeface="Constantia"/>
              </a:rPr>
              <a:t>Survey of Current Business,</a:t>
            </a: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 BEA announced that it would undertake “flexible annual revisions” that include revisions for longer periods than the traditional 3-year period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In this year’s NIPA annual revision, scheduled for release on July 29, 2011, some series will be revised back to 2003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3062-7DF3-4ECD-A13C-738E70B834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Why flexible annual revisions?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o incorporate important statistical and conceptual improvements sooner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o incorporate source data for longer periods than the 3 most recent years. 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Substantive effect on a major aggregate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rovides a significantly clearer picture of economic activity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o strengthen the integration of BEA’s national, industry, and other accounts.  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CDEB-F943-48D7-B2C4-D218D8880C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Revisions pre-2008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ersonal consumption expenditur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Revised back to 2003 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Merchandise line data from the economic censu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Benchmarked retail trade and service annual survey data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etroleum impor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Revised back to 2007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Improved seasonal adjustment methodology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rivate fixed investment, exports, and impor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Revised back to 2003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Quality-adjusted Federal Reserve Board price indexes for communications equipment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F7E6-A0BD-4011-8A7C-FA62C46EFF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2011 Annual Revision: Other change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ersonal income and outlays tabl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Updated presentation of government social benefits to focus on the largest and most significant program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CE deflators for property and casualty insurance servic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Improved consistency in the measures of real insurance service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CE for portfolio management and investment advice services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Based on the Census quarterly services survey starting with the first quarter of 2011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E3E6-1EA5-4448-A524-70A3303969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8:33:25Z</dcterms:created>
  <dc:creator>bealocaladmin</dc:creator>
  <dc:description/>
  <dc:language>en-US</dc:language>
  <cp:lastModifiedBy>Brent Moulton</cp:lastModifiedBy>
  <dcterms:modified xsi:type="dcterms:W3CDTF">2011-04-28T21:50:46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03383925</vt:r8>
  </property>
  <property fmtid="{D5CDD505-2E9C-101B-9397-08002B2CF9AE}" pid="3" name="_AuthorEmail">
    <vt:lpwstr>Shaunda.Villones@bea.gov</vt:lpwstr>
  </property>
  <property fmtid="{D5CDD505-2E9C-101B-9397-08002B2CF9AE}" pid="4" name="_AuthorEmailDisplayName">
    <vt:lpwstr>Villones, Shaunda</vt:lpwstr>
  </property>
  <property fmtid="{D5CDD505-2E9C-101B-9397-08002B2CF9AE}" pid="5" name="_EmailSubject">
    <vt:lpwstr>Posting for BEA Advisory Committee</vt:lpwstr>
  </property>
  <property fmtid="{D5CDD505-2E9C-101B-9397-08002B2CF9AE}" pid="6" name="_NewReviewCycle">
    <vt:lpwstr/>
  </property>
  <property fmtid="{D5CDD505-2E9C-101B-9397-08002B2CF9AE}" pid="7" name="_PreviousAdHocReviewCycleID">
    <vt:r8>17288773</vt:r8>
  </property>
</Properties>
</file>