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AB9B-DE75-4C83-BC25-6F29852C9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F9F7-0685-457D-8799-7738A4734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7B75-1425-42E7-B686-251BE7BBF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0C07-01FB-44F2-B7F0-66DDD4E29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8C4B-F85F-42A9-817B-CCBB564881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5F70D-DBEA-4DB6-A70E-CC62AD63A4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DF20-660A-4396-99B0-8E65C78352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57ED-E9E0-4A5B-914F-A14C32205A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909D-B86D-4161-8458-F0FC077DD1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CA88-9052-4CF1-ADF0-F721D8A501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60D4-446D-4A40-8EFF-751234EF3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5C79-0ABB-4C20-A6D6-497B189ED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039B-AEE2-4B8A-83A0-010A36A0BB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087F-2C75-40F2-B7FF-CE7C948F88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BA31-9313-4578-BDA2-B560B05767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BD9D1-CBBC-4F7E-B721-8F4A92433F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710F-AD4A-46C7-8BA5-45C4D0188D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9F4A-6A83-41E7-9B75-C1EF97BC8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4D20-3C20-4C3D-9E5A-911C58F30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5084-0743-4C5A-A6DE-6727A259D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76BC-78B4-4B19-B505-A38B769A5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D212-4FE2-4C7E-B55B-022913398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F58B-915C-4ECE-A363-6707F8B97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2E51-661E-4D6C-B13A-0D406D2E8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E720-FA91-488C-A3E0-42EC89269ED8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94E7-7AC7-43CF-9933-132F0C1BF819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2" marL="914400" algn="ctr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3" marL="13716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4" marL="1828800" algn="ctr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806480"/>
            <a:ext cx="85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Update on NIPA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Constantia"/>
              </a:rPr>
              <a:t>Projects and Plans</a:t>
            </a:r>
            <a:endParaRPr b="1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952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Brent Mou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5429160"/>
            <a:ext cx="7696080" cy="9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BEA Advisor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Washington,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May 6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2013 NIPA Comprehensive Revision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Will incorporate the 2007 Benchmark Input-Output Accounts and other benchmark source data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onceptual revisions based on the recent update of international guidelines: </a:t>
            </a:r>
            <a:r>
              <a:rPr b="0" i="1" lang="en-US" sz="2400" spc="-1" strike="noStrike">
                <a:solidFill>
                  <a:srgbClr val="00267f"/>
                </a:solidFill>
                <a:latin typeface="Constantia"/>
              </a:rPr>
              <a:t>System of National Accounts 2008 (SNA)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onceptual changes currently planned for 2013: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Capitalizing research and development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Capitalizing entertainment, literary, and artistic original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Accrual measures for defined-benefit pension plan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Improved measures of financial service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New approach for measuring the costs of ownership transfer. 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7654-867E-4736-9349-4102C9A39E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apitalizing research and developmen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BEA’s R&amp;D satellite account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Work began in 2004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Latest results (December 2010 </a:t>
            </a:r>
            <a:r>
              <a:rPr b="0" i="1" lang="en-US" sz="2400" spc="-1" strike="noStrike">
                <a:solidFill>
                  <a:srgbClr val="00267f"/>
                </a:solidFill>
                <a:latin typeface="Constantia"/>
              </a:rPr>
              <a:t>Survey</a:t>
            </a: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) show GDP for 2007 would be raised $396.3 billion (or 2.8 percent) by treating R&amp;D as investment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Steps toward treating R&amp;D as investment in the NIPAs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Prices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apital stock and depreciation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Business income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Government spending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Quarterly investment estimate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1FA8-CE17-4769-99FA-472D615D49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Entertainment, literary and artistic originals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Original films, sound recordings, manuscripts, etc., that can be used for the production and sale of copie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NA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 recommends that they be capitalized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BEA staff (especially Rachel Soloveichik) are developing estimates for several types of originals, including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Motion pictures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Television programs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Music compositions and recordings,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Book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1FB2-875E-4C12-9B92-DC28B5F0AF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Defined benefit pension plan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urrent NIPA treatment: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Employer contributions are compensation.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nterest and dividends received by pension funds are personal income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Problems with current treatment: 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Underfunded and unfunded pension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Volatility of contributions.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Disconnect with economic principle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BDD9-D8A1-4510-9BEE-A0C58A5C0A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New approach to pension plan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NA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 recommends accrual estimates based on actuarial estimate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Article in August 2009 </a:t>
            </a: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urvey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 (Reinsdorf &amp; Lenze) shows how accrual approach can be applied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For private plans – accrual approach results in less volatility in compensation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Larger effects for government plans (because of underfunding)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Lower compensation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Higher interest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9D9B-0C20-4588-A564-C351871CA2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Measures of financial service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For financial services furnished without payment, expected credit losses will be excluded from borrower service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Avoid spurious volatility in splitting total financial services without payment between depositor and borrower service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Extend the reference rate approach (currently used for commercial banks) to thrift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6539-68EA-48A4-8AF3-F33324513A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osts of ownership transfer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Real estate brokers commissions are currently classified as fixed investment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The revised </a:t>
            </a: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SNA</a:t>
            </a: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 clarified the scope of ownership transfer costs and provides a more consistent accounting of how they should be reflected in measures of capital stock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Depreciate costs of acquiring an asset over the period the asset is expected to be held by the purchaser (rather than over the whole life of the asset)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0576-6831-4EFC-8B1F-71A2C7FD78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Outlin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Overview of recent NIPA-related projects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Plans for the 2011 NIPA annual revision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Plans for the 2013 comprehensive NIPA revision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D8EC7-1CE5-4774-88F4-3A6C84AC1D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Tracking the economy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Tracking the recession and recovery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Changes in government programs and tax policie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Web pages on “Federal Recovery Programs and BEA Statistics.”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ntegrated macroeconomic accoun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An integrated presentation of the NIPAs and the flow of funds account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Quarterly and annual estimate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Joint release on BEA and FRB Web site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Plans to provide additional information for several financial subsectors. 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0405E-38D2-4497-A5AE-41CAF479EC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Expanding scop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BEA’s first-ever territorial GDP estimat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Released in 2010 and updated in 2011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American Samoa, the Commonwealth of the Northern Mariana Islands, Guam, and the U.S. Virgin Islands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Reconciliation of health care expenditures in the National Health Accounts and in GDP (September 2010 </a:t>
            </a:r>
            <a:r>
              <a:rPr b="0" i="1" lang="en-US" sz="3200" spc="-1" strike="noStrike">
                <a:solidFill>
                  <a:srgbClr val="00267f"/>
                </a:solidFill>
                <a:latin typeface="Constantia"/>
              </a:rPr>
              <a:t>Survey of Current Business</a:t>
            </a: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)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2019-EFB2-4D7D-915C-A43D88026C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Documentation:  NIPA handbook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67f"/>
                </a:solidFill>
                <a:latin typeface="Constantia"/>
              </a:rPr>
              <a:t>Concepts and Methods of the U.S. National Income and Product Accoun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Seven chapters have been published, covering: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Concepts, source data, and estimating methods,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Personal consumption expenditures,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Private fixed investment,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Change in private inventorie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Additional chapters in progress: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Foreign trade,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Government consumption expenditures and gross investment,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4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7f"/>
                </a:solidFill>
                <a:latin typeface="Constantia"/>
              </a:rPr>
              <a:t>Compensation of employees.</a:t>
            </a:r>
            <a:endParaRPr b="0" lang="en-US" sz="20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E243-3748-428C-9DA1-BA9545D4E3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2011 NIPA Annual Revision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In the June 2008 </a:t>
            </a:r>
            <a:r>
              <a:rPr b="0" i="1" lang="en-US" sz="3200" spc="-1" strike="noStrike">
                <a:solidFill>
                  <a:srgbClr val="00267f"/>
                </a:solidFill>
                <a:latin typeface="Constantia"/>
              </a:rPr>
              <a:t>Survey of Current Business,</a:t>
            </a: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 BEA announced that it would undertake “flexible annual revisions” that include revisions for longer periods than the traditional 3-year period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In this year’s NIPA annual revision, scheduled for release on July 29, 2011, some series will be revised back to 2003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2CAAE-1ABE-4BF2-8237-2630FF4F4A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Why flexible annual revisions?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o incorporate important statistical and conceptual improvements sooner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o incorporate source data for longer periods than the 3 most recent years. 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Substantive effect on a major aggregate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rovides a significantly clearer picture of economic activity.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o strengthen the integration of BEA’s national, industry, and other accounts.  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454D-C366-4FF6-AA23-5E81F46B43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Revisions pre-2008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ersonal consumption expenditur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Revised back to 2003 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Merchandise line data from the economic censu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Benchmarked retail trade and service annual survey data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etroleum impor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Revised back to 2007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Improved seasonal adjustment methodology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rivate fixed investment, exports, and impor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Revised back to 2003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Quality-adjusted Federal Reserve Board price indexes for communications equipment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EFEFE-D4DB-46A1-875B-713F56D0BF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2011 Annual Revision: Other change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ersonal income and outlays tabl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Updated presentation of government social benefits to focus on the largest and most significant program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CE deflators for property and casualty insurance servic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Improved consistency in the measures of real insurance services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CE for portfolio management and investment advice services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Based on the Census quarterly services survey starting with the first quarter of 2011.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1DFC-CB8B-4181-B900-C521980022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8:33:25Z</dcterms:created>
  <dc:creator>bealocaladmin</dc:creator>
  <dc:description/>
  <dc:language>en-US</dc:language>
  <cp:lastModifiedBy>Brent Moulton</cp:lastModifiedBy>
  <dcterms:modified xsi:type="dcterms:W3CDTF">2011-04-28T21:50:46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03383925</vt:r8>
  </property>
  <property fmtid="{D5CDD505-2E9C-101B-9397-08002B2CF9AE}" pid="3" name="_AuthorEmail">
    <vt:lpwstr>Shaunda.Villones@bea.gov</vt:lpwstr>
  </property>
  <property fmtid="{D5CDD505-2E9C-101B-9397-08002B2CF9AE}" pid="4" name="_AuthorEmailDisplayName">
    <vt:lpwstr>Villones, Shaunda</vt:lpwstr>
  </property>
  <property fmtid="{D5CDD505-2E9C-101B-9397-08002B2CF9AE}" pid="5" name="_EmailSubject">
    <vt:lpwstr>Posting for BEA Advisory Committee</vt:lpwstr>
  </property>
  <property fmtid="{D5CDD505-2E9C-101B-9397-08002B2CF9AE}" pid="6" name="_NewReviewCycle">
    <vt:lpwstr/>
  </property>
  <property fmtid="{D5CDD505-2E9C-101B-9397-08002B2CF9AE}" pid="7" name="_PreviousAdHocReviewCycleID">
    <vt:r8>17288773</vt:r8>
  </property>
</Properties>
</file>