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3832-ED85-4725-91C1-9A05AAA8BA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CE0B-A1C8-4659-9157-FA3087D294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F482-1601-4131-A531-D3AECF29E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7492F-6243-44C3-9C4E-B69EBC06B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E4B2-FC97-46DA-9988-B3F3EDF5A2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5D66-2333-40C8-BCEA-14234B599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2EB1C-A4EC-4AEB-ABD1-9555DA6287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D89F-3B33-46E5-9BB1-26906EF462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5017-D49C-4B64-92F1-EB478B279A6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BBC2-16CE-4397-A259-BE673772B5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A63C-D265-45B7-AD71-3D933473BB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0D98-EEEB-4875-816C-89A44973B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5010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1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4" marL="157680" indent="-157680" algn="ctr">
              <a:spcBef>
                <a:spcPts val="45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5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6" marL="157680" indent="-157680" algn="ctr">
              <a:spcBef>
                <a:spcPts val="45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ca6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601"/>
              </a:spcBef>
              <a:buClr>
                <a:srgbClr val="0026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3" name=""/>
          <p:cNvSpPr/>
          <p:nvPr/>
        </p:nvSpPr>
        <p:spPr>
          <a:xfrm>
            <a:off x="-123480" y="6416640"/>
            <a:ext cx="180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d86"/>
                </a:solidFill>
                <a:latin typeface="Constantia"/>
              </a:rPr>
              <a:t>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1728-8814-492F-B594-A627C9D6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nstantia"/>
              </a:rPr>
              <a:t>Latest Real GDP and GDI Estimates </a:t>
            </a:r>
            <a:endParaRPr b="1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7924680" cy="539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E952-BCEA-4EEC-B2A1-06ECAEE41C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arly Real GDP and GDI Estimat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(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estimates)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001000" cy="544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170D-B220-4DB9-B78D-E957C6D55D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Early GDP and GDI Estimates: Great Rece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(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estimates)</a:t>
            </a:r>
            <a:endParaRPr b="1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1203480"/>
          <a:ext cx="9144000" cy="56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3480"/>
                    <a:ext cx="914400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C2BB-E3F1-4473-9EEC-BF51D90AA7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36:32Z</dcterms:created>
  <dc:creator>Cindy Vojtech</dc:creator>
  <dc:description/>
  <dc:language>en-US</dc:language>
  <cp:lastModifiedBy>U.S. Department of Commerce</cp:lastModifiedBy>
  <dcterms:modified xsi:type="dcterms:W3CDTF">2010-04-30T20:54:48Z</dcterms:modified>
  <cp:revision>2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9909912</vt:r8>
  </property>
  <property fmtid="{D5CDD505-2E9C-101B-9397-08002B2CF9AE}" pid="3" name="_AuthorEmail">
    <vt:lpwstr>Shaunda.Villones@bea.gov</vt:lpwstr>
  </property>
  <property fmtid="{D5CDD505-2E9C-101B-9397-08002B2CF9AE}" pid="4" name="_AuthorEmailDisplayName">
    <vt:lpwstr>Villones, Shaunda</vt:lpwstr>
  </property>
  <property fmtid="{D5CDD505-2E9C-101B-9397-08002B2CF9AE}" pid="5" name="_EmailSubject">
    <vt:lpwstr>Posting request for BEA Advisory Committee Meeting materials</vt:lpwstr>
  </property>
  <property fmtid="{D5CDD505-2E9C-101B-9397-08002B2CF9AE}" pid="6" name="_NewReviewCycle">
    <vt:lpwstr/>
  </property>
  <property fmtid="{D5CDD505-2E9C-101B-9397-08002B2CF9AE}" pid="7" name="_PreviousAdHocReviewCycleID">
    <vt:r8>-1098093041</vt:r8>
  </property>
</Properties>
</file>