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0B11-F480-4E21-A216-D1EBB8D46A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5024-0AF7-4154-A525-2D120A5572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DE57-B924-4701-B583-17E3A1975A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5FA4-4398-4897-8267-BF76DDCE63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E914-9D7F-45A3-9D43-0F0B5689F6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AFED-BDA1-4D5A-8F6A-B4DB2762A6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76B9-61DB-4D27-A946-EF6597361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1CE3-6765-4CC9-B746-1A15888400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EDCE-59C6-49D6-8B31-B3C0145207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A0C1-34DE-4B7C-BECF-E81F6ED0FE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B8CE-2677-4063-8EE8-628CAF663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63B3-AABB-4B7C-8AD3-FCD70BE0C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5010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4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5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6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3" name=""/>
          <p:cNvSpPr/>
          <p:nvPr/>
        </p:nvSpPr>
        <p:spPr>
          <a:xfrm>
            <a:off x="-123480" y="6416640"/>
            <a:ext cx="18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86"/>
                </a:solidFill>
                <a:latin typeface="Constantia"/>
              </a:rPr>
              <a:t>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4B6-B64B-41DC-9775-586D7F9B0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Latest Real GDP and GDI Estimates 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7924680" cy="53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AD78-D1F8-4A9B-9ED6-0CFAACFAFA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Early Real GDP and GDI Estimat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(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nstantia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estimates)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001000" cy="544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9EAD-F61D-441F-9E79-BCAC338927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Early GDP and GDI Estimates: Great Rece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(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nstantia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estimates)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203480"/>
          <a:ext cx="9144000" cy="56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914400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BA0A-3499-407B-AE5A-5CAE63B41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U.S. Department of Commerce</cp:lastModifiedBy>
  <dcterms:modified xsi:type="dcterms:W3CDTF">2010-04-30T20:54:48Z</dcterms:modified>
  <cp:revision>2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9909912</vt:r8>
  </property>
  <property fmtid="{D5CDD505-2E9C-101B-9397-08002B2CF9AE}" pid="3" name="_AuthorEmail">
    <vt:lpwstr>Shaunda.Villones@bea.gov</vt:lpwstr>
  </property>
  <property fmtid="{D5CDD505-2E9C-101B-9397-08002B2CF9AE}" pid="4" name="_AuthorEmailDisplayName">
    <vt:lpwstr>Villones, Shaunda</vt:lpwstr>
  </property>
  <property fmtid="{D5CDD505-2E9C-101B-9397-08002B2CF9AE}" pid="5" name="_EmailSubject">
    <vt:lpwstr>Posting request for BEA Advisory Committee Meeting materials</vt:lpwstr>
  </property>
  <property fmtid="{D5CDD505-2E9C-101B-9397-08002B2CF9AE}" pid="6" name="_NewReviewCycle">
    <vt:lpwstr/>
  </property>
  <property fmtid="{D5CDD505-2E9C-101B-9397-08002B2CF9AE}" pid="7" name="_PreviousAdHocReviewCycleID">
    <vt:r8>-1098093041</vt:r8>
  </property>
</Properties>
</file>