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0058-2B82-4CD8-9E8F-19874A06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4994-5E3E-4363-AFD7-163820A6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BD90-C596-4171-91E1-AC1654FD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9F3C-ACF0-4A31-952C-77A74A1FA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BC91-9843-492A-8079-C6900935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B4AA-D500-4D43-9740-4A9E0ACC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1A61-F374-4BD3-B680-56CEC692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3CEF-93C3-4966-9949-D9704B23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35D0-1CF0-4A93-9879-350DA088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FFA7-E9FC-40BB-86C9-ADFA91AE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8486-3C4C-4149-84C5-464180E5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7866-23CB-4C54-AFC4-AE3C2A11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A185-134E-4AF8-8AA4-DB60E71D3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SONAL ADJU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A Advisory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11,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o users w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series that represent the concept they are said to measure to be as accurate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US, they usually want a seasonally adjusted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urope and Asia, there is a healthy skepticism about the quality of SA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iscellaneous Though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sonal Adjustment is a lot more difficult than it might se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sonal Adjustment is really forecasting.  We make judgments that affect the out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seems to be a communication gap between those who understand the inner workings of these programs and those who work with the data day to 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more research on situations like our “Great Recession” where we don’t just have one outlier to deal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12-ARIMA doesn’t seem to be sensitive enough to detect outliers except major ones like Katrina on LA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es Tramo-Seats consistently produce a smoother seasonally adjusted se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benefits of concurrent seasonal adjustment offset problems it crea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work load at the statistical agencies when faced with tight release sche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uncertainty for users who need to forecast this month’s fig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sus Bureau should be commended for the development of X13-S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an official release so it gets incorporated into major econometrics pk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source code in C so it is more accessible.  Most FORTRAN programmers have ret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greater transparency on how seasonal adjustment i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few descriptions of intervention analysis tell you how it was really done.  Was it treated as an Additive Outlier, Level Shift, RAM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ving out months seems to mean different things to different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lear whether the recession echo problem is caused by the tool (X12) or because the capabilities were not fully utilized or used cor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if the problem is due to user error, we need a tool that reasonably intelligent economic analysts can use without extensive trai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13:32:25Z</dcterms:created>
  <dc:creator>Lai Cheng</dc:creator>
  <dc:description/>
  <dc:language>en-US</dc:language>
  <cp:lastModifiedBy>MAH</cp:lastModifiedBy>
  <dcterms:modified xsi:type="dcterms:W3CDTF">2012-05-11T10:15:31Z</dcterms:modified>
  <cp:revision>2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14148791</vt:r8>
  </property>
  <property fmtid="{D5CDD505-2E9C-101B-9397-08002B2CF9AE}" pid="3" name="_AuthorEmail">
    <vt:lpwstr>Gianna.Marrone@bea.gov</vt:lpwstr>
  </property>
  <property fmtid="{D5CDD505-2E9C-101B-9397-08002B2CF9AE}" pid="4" name="_AuthorEmailDisplayName">
    <vt:lpwstr>Marrone, Gianna</vt:lpwstr>
  </property>
  <property fmtid="{D5CDD505-2E9C-101B-9397-08002B2CF9AE}" pid="5" name="_EmailSubject">
    <vt:lpwstr>Last of the ACM Presentations</vt:lpwstr>
  </property>
  <property fmtid="{D5CDD505-2E9C-101B-9397-08002B2CF9AE}" pid="6" name="_NewReviewCycle">
    <vt:lpwstr/>
  </property>
</Properties>
</file>