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033-1471-4E09-89E5-AB8D890F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B8C-87D0-40B7-B7B6-60C0EDF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561-397A-4A9A-A4A6-81DAA123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E7D-BC95-4AE4-B978-EE83DE0A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078-BC19-4B3C-9389-0592E8A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CA9-06C4-4A9D-B216-8F4EAED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779-8369-4DEF-9617-85D0812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A1D-3BED-48C3-8C52-6A7B992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17C-A001-43AB-883A-425E3943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D6C-39D2-49BE-A8E4-2275FAE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014-78E7-49A9-A04A-0060DB3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51-6405-4A33-A184-7731B86C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590-669C-473B-979B-3E79F6D0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SONAL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ries that represent the concept they are said to measure to be as accurat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US, they usually want a seasonally adjusted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urope and Asia, there is a healthy skepticism about the quality of S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scellaneous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Adjustment is a lot more difficult than it might s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Adjustment is really forecasting.  We make judgments that affect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seems to be a communication gap between those who understand the inner workings of these programs and those who work with the data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ore research on situations like our “Great Recession” where we don’t just have one outlier to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2-ARIMA doesn’t seem to be sensitive enough to detect outliers except major ones like Katrina on L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es Tramo-Seats consistently produce a smoother seasonally adjusted s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enefits of concurrent seasonal adjustment offset problems it cre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work load at the statistical agencies when faced with tight release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ncertainty for users who need to forecast this month’s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sus Bureau should be commended for the development of X13-S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n official release so it gets incorporated into major econometrics pk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ource code in C so it is more accessible.  Most FORTRAN programmers have ret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greater transparency on how seasonal adjustment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ew descriptions of intervention analysis tell you how it was really done.  Was it treated as an Additive Outlier, Level Shift, RA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ing out months seems to mean different things to differen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lear whether the recession echo problem is caused by the tool (X12) or because the capabilities were not fully utilized or use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 problem is due to user error, we need a tool that reasonably intelligent economic analysts can use without extensive trai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32:25Z</dcterms:created>
  <dc:creator>Lai Cheng</dc:creator>
  <dc:description/>
  <dc:language>en-US</dc:language>
  <cp:lastModifiedBy>MAH</cp:lastModifiedBy>
  <dcterms:modified xsi:type="dcterms:W3CDTF">2012-05-11T10:15:31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4148791</vt:r8>
  </property>
  <property fmtid="{D5CDD505-2E9C-101B-9397-08002B2CF9AE}" pid="3" name="_AuthorEmail">
    <vt:lpwstr>Gianna.Marrone@bea.gov</vt:lpwstr>
  </property>
  <property fmtid="{D5CDD505-2E9C-101B-9397-08002B2CF9AE}" pid="4" name="_AuthorEmailDisplayName">
    <vt:lpwstr>Marrone, Gianna</vt:lpwstr>
  </property>
  <property fmtid="{D5CDD505-2E9C-101B-9397-08002B2CF9AE}" pid="5" name="_EmailSubject">
    <vt:lpwstr>Last of the ACM Presentations</vt:lpwstr>
  </property>
  <property fmtid="{D5CDD505-2E9C-101B-9397-08002B2CF9AE}" pid="6" name="_NewReviewCycle">
    <vt:lpwstr/>
  </property>
</Properties>
</file>