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9E3750-D714-4740-9A6B-196B47790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5D6C53-6D36-4012-977E-D5FD81825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A758AF-25D4-41C1-8689-F4BB8687F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59E9-4A3F-46F1-AE9B-63DA044D5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4F93-3885-4752-8FFA-4D330B07B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38BB-BA2E-41DE-9584-18F210F2B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E149-9504-41E0-9BF9-7EC50CC19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DC213-D21E-4307-91B3-5B325241FE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7940-0ACC-4D43-AAA7-723519B01B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4CB6-B55A-4C49-B32F-AB32B7EDF7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A10C-EA57-4222-94CB-342DADE1F5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09D0-CAB4-4B32-9C95-654494A01A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8C61-D39D-49F7-B11F-1E19F3E6ED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6DC02-65CB-4472-AE59-286CD70A6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AFA8-7DE0-40D1-88EB-5D3792B84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AACC-9E36-4630-8A92-02FFAED913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D1BE-DD2E-4682-B6DB-F2222F433D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D44C-177E-4A33-93BE-A557475E8F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0D37-5624-4868-8746-6EA6F3D002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17635-04EA-441D-83C7-9626BA08777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48B-4D1C-4CED-A4E6-201CF1FCA3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B15-F460-4C41-BB3B-33298EAF8E9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806-A8C0-49C4-815B-39DBB42B86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891-56C7-490D-AF3A-774C68BE8E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670-CC5E-461C-B259-D6D3C529DC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9190-C2B3-4F9B-9940-017AC1797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EFB-FF0E-4ED7-AC87-563DA5504C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0F0B-D969-41DE-816D-2EB7C3008C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806-E984-48DD-B9B9-AD6B27B313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951-8719-4477-82D9-93E069EC15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73C-9AF6-4654-9544-E66A48D2B9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6C43-B499-4E60-8BE3-44C1118346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F56-3D55-487C-A886-F15CAAF02F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69E48-CD8A-4AF2-ADCC-F58B55FD7B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F89A0-2B1B-4D7C-8DF6-D06F6B4865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7EAA-98AC-4EE0-B1C9-59B2DE9F4A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BF68-B96E-4045-9E3C-1E7996CF7B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8DFC2-A34C-4E7F-BC1C-9B7434DA52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3FD0-60B4-4568-81BC-656FFC5E50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85232-2A29-4257-BF8B-DFC4E8C8DF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F956C-28EB-4CC7-8FCF-B377C53829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4F0C1-2CED-41BB-B8B6-C19BE61FC4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B457-6C1B-409D-8549-F12D99838A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56FA4-FFAD-492B-9A42-F731C9C4E5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76E68-B43F-4308-A2C6-2080E30CAA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FF1FD-0356-422E-AC91-72CB9B47A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A957-2C95-4AAB-B100-5D152CDFF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FF14-0FA4-4B32-BB3F-D958C15BD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1717-96B6-4808-BE1D-EDA03301B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ED11-EFD5-4712-863B-501182825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7178-BCFA-4DEB-A120-F063A6361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883C-183C-470C-8EB0-AE1EB62AC9E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7234-14A4-4574-A601-B2B8D4B8418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EB3F-1C13-40A6-82C3-B8C9B2D2AE0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D273-146F-48A9-A53D-A9DE743C660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Looking Ahead: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2013 NIPA Comprehensive Revision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58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nt 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2120" y="5429160"/>
            <a:ext cx="76960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BEA Advisory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ay 11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llectual Property Product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posed new presentation of NIPA private fixed investment tables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Nonresidential fixed investme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tructur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quipment (no longer including software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ntellectual property produc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oftware (currently included with equipment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search and developme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97280" indent="-2192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ntertainment, literary, and artistic originals</a:t>
            </a:r>
            <a:br>
              <a:rPr sz="2400"/>
            </a:b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F380-64D5-4DEB-936C-6EED1EF20C6E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1670-924C-4630-91EC-8E60BFF5166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efined-benefit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Current NIPA treatment treats employer contributions as compensation (cash based)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blems with current treatment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derfunded and unfunded pension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olatility of contribution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onnect with economic princip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posed measure is accrual bas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arshall Reinsdorf will present detailed discussion of proposa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906-422D-4268-9BD4-B75A5364193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Banking servic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financial services furnished without payment by commercial banks, expected credit losses will be excluded from borrower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void spurious volatility in splitting total financial services without payment between depositor and borrower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11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uture work:  Extend the reference rate approach beyond commercial banks to thrif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ffect of smoothing and defaul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djustment on borrower servic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5BA-1525-4AF6-AA01-1010D373B51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ontent Placeholder 4" descr=""/>
          <p:cNvPicPr/>
          <p:nvPr/>
        </p:nvPicPr>
        <p:blipFill>
          <a:blip r:embed="rId1"/>
          <a:stretch/>
        </p:blipFill>
        <p:spPr>
          <a:xfrm>
            <a:off x="231840" y="1219320"/>
            <a:ext cx="8607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4F9C-01A7-412A-A231-5F03048B593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osts of ownership transf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al estate brokers’ commissions on structures are currently classified as fixed investm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he revised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clarifies the scope and measurement of ownership transfer cost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ovides a more consistent accounting of how these costs should be reflected in measures of capital stock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Depreciate costs of acquiring an asset over the period the asset is expected to be held by the purchaser (rather than over the whole life of the asset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Before the releas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dditional information will be provid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eview” articles in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 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n the conceptual and methodological chang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formation posted on Web sit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eetings with data user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Questions/comments/feedback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1094-5AD6-4EC8-A6D6-AD1333A2825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Overview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st May, we introduced tentative plans for 2013 comprehensive revision. Now we are able to provide more detail on the proposed chang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4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lan includes coordinated release of revised NIPAs and 2007 Benchmark Input-Output Accounts, which will be fully integrated. 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4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ussion of major proposed conceptual chang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2640" indent="-33264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AA5-29D3-41FD-BE4B-5F6963E9EF3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hy conduct a comprehensive revision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129492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Incorporates benchmark source data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2007 Benchmark Input-Output Accounts and Economic Censu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Other major source data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Flexible annual revision in 2011 allowed us to incorporate some data from economic censu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Statistical revisions to GDP, GDI, statistical discrepancy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Conceptual revisions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698400" indent="-268560"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Reflect updated international guidelines: </a:t>
            </a:r>
            <a:r>
              <a:rPr b="0" i="1" lang="en-US" sz="2200" spc="-1" strike="noStrike">
                <a:solidFill>
                  <a:srgbClr val="00267f"/>
                </a:solidFill>
                <a:latin typeface="Constantia"/>
              </a:rPr>
              <a:t>System of National Accounts 2008 (SNA).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64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7f"/>
                </a:solidFill>
                <a:latin typeface="Constantia"/>
              </a:rPr>
              <a:t>Improvements to tables and presentation of data</a:t>
            </a: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9CAE-A33C-4FBB-800A-374E02F8F22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18F-C486-48A1-BEB7-8F297222CAC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Proposed major conceptual chang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ization of research and development (R&amp;D)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ization of entertainment, literary, and artistic original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ccrual measures for defined-benefit pension plan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measures of banking servic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New approach for measuring the costs of ownership transfer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50C8-6516-4BBF-8604-DD7855E4B795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apitalizing R&amp;D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76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&amp;D activities create intellectual property products that have the characteristics of fixed assets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Ownership right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Long-lasting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Used in production proces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EA published first R&amp;D satellite account in 1994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fter hiatus, work on R&amp;D satellite account resumed in mid 2000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4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atellite account published in 2006, 2007 and 2010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15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n 2013, R&amp;D will be capitalized in the core national and industry accoun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C482-E006-41E6-806E-FC3C7E7776F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rom R&amp;D expenditures to GDP impacts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dentify R&amp;D investm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Sum R&amp;D input costs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onstantia"/>
              </a:rPr>
              <a:t>Remove double-counting</a:t>
            </a:r>
            <a:endParaRPr b="0" lang="en-US" sz="1800" spc="-1" strike="noStrike">
              <a:solidFill>
                <a:srgbClr val="00267f"/>
              </a:solidFill>
              <a:latin typeface="Constanti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7f"/>
                </a:solidFill>
                <a:latin typeface="Constantia"/>
              </a:rPr>
              <a:t>Include depreciation of other fixed assets used to produce R&amp;D</a:t>
            </a:r>
            <a:endParaRPr b="0" lang="en-US" sz="1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Assign investment to owning sector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Deflate nominal investment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stimate R&amp;D capital stocks by owner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Create capital stocks with perpetual inventory method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DP impac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Private business sector GDP increases by new investment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7f"/>
                </a:solidFill>
                <a:latin typeface="Constantia"/>
              </a:rPr>
              <a:t>Government and private nonprofit sector GDP increases by consumption of fixed capital on the stock of R&amp;D capital</a:t>
            </a:r>
            <a:endParaRPr b="0" lang="en-US" sz="2200" spc="-1" strike="noStrike">
              <a:solidFill>
                <a:srgbClr val="00267f"/>
              </a:solidFill>
              <a:latin typeface="Constanti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Summary of impacts: 2007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470E-4BB9-4762-9480-5FC59972E6B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8600" y="1295280"/>
          <a:ext cx="8763120" cy="4691160"/>
        </p:xfrm>
        <a:graphic>
          <a:graphicData uri="http://schemas.openxmlformats.org/drawingml/2006/table">
            <a:tbl>
              <a:tblPr/>
              <a:tblGrid>
                <a:gridCol w="7543800"/>
                <a:gridCol w="1219320"/>
              </a:tblGrid>
              <a:tr h="652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DP Impacts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billions of doll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DP (as published in the NIP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7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Business own-account and purchased R&amp;D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2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Software overlap 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CFC on government and nonprofit R&amp;D asse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2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DP, with R&amp;D as inve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377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523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n GDP of capitalizing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R&amp;D implementat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440" y="12189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s of R&amp;D output are unobserved; output is heterogeneous; most is produced on own-account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nput-cost price indexe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Adjustments for productivity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Economic depreciation measures the value of the capital used up in production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ndustry-specific depreciation rates for business R&amp;D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Government and nonprofit depreciation rates based on the business R&amp;D model or on research about the production cycle for certain Federal defense and nondefense assets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ork underway to develop quarterly indicator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CB57-703C-4645-A2EF-34390F36125E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55B3-5569-4A91-B448-C865E9DA6632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Entertainment, literary, and artistic original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riginal films, sound recordings, manuscripts, etc., that can be used for the production and sale of copi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that they be capitaliz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stimates for several types, including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otion pictur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elevision program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usic compositions and recording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ook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DP impact for 2007—about $70 billion, or 0.5 perce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June 2011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 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rticl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8:33:25Z</dcterms:created>
  <dc:creator>bealocaladmin</dc:creator>
  <dc:description/>
  <dc:language>en-US</dc:language>
  <cp:lastModifiedBy>Windows User</cp:lastModifiedBy>
  <cp:lastPrinted>2012-05-02T14:46:09Z</cp:lastPrinted>
  <dcterms:modified xsi:type="dcterms:W3CDTF">2012-05-09T15:48:16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6498197</vt:r8>
  </property>
  <property fmtid="{D5CDD505-2E9C-101B-9397-08002B2CF9AE}" pid="3" name="_AuthorEmail">
    <vt:lpwstr>Brent.Moulton@bea.gov</vt:lpwstr>
  </property>
  <property fmtid="{D5CDD505-2E9C-101B-9397-08002B2CF9AE}" pid="4" name="_AuthorEmailDisplayName">
    <vt:lpwstr>Moulton, Brent</vt:lpwstr>
  </property>
  <property fmtid="{D5CDD505-2E9C-101B-9397-08002B2CF9AE}" pid="5" name="_EmailSubject">
    <vt:lpwstr>My Advisory committee slides</vt:lpwstr>
  </property>
  <property fmtid="{D5CDD505-2E9C-101B-9397-08002B2CF9AE}" pid="6" name="_NewReviewCycle">
    <vt:lpwstr/>
  </property>
</Properties>
</file>