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FBBEEF-21BD-4C8D-ADCD-986DEBBF7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09A817-8C8D-4DF4-9759-9C671A4F3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98BD0F-5987-4D68-BB57-CF4F1C680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19F1-8D65-4E8B-839F-F9EDF28ED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1399-260C-4E97-8DB0-5AD9D54E7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90E2F-8662-4ECF-B93E-43CC44E95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6BA0-9193-4254-AA27-0555E70A9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4420-2E7F-423A-BC6A-E98E76AACF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34797-7EB2-44AE-BCEB-E2A159F33E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9313-E1F9-4D04-BD61-B843C7B5C9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1F24-3011-4C10-8F31-471B8D69B4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873A-BAC3-4E20-AEE2-ACEBC2B090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1322-80BD-47CF-894B-C63A0FE248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652B9-0490-4907-9008-7E609E0953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CA87-7E3A-4634-A70A-4D9217D76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A1478-B629-4377-B85D-AEEFECD229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E79B0-7C94-4793-9C04-2C526EC195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FEBC4-4E54-41F9-AA01-C2919912FA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2E8E-9EEE-4937-966C-500C2F7A97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A1F2C-CD1E-4EA4-B593-B241C9A9F8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B82-CC0E-4286-9C34-2C2B9C69F7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D3D-F0DE-4F8D-8F32-3631AFC2FC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B63-4544-47BF-8EFF-557B449A7B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BD0-55C1-4E6F-8AD1-E2DEEC54CD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ADE-4B4C-4CB0-B97F-CEF43CBA13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1DC8-FA35-45AD-BF59-91A904758A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F28-C0D5-4FF1-8F52-9274DD6839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34E-44C0-4120-A33E-BF45C1B488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A64-0884-42D0-B285-56D0807CEE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0E3-7A06-481A-8648-BCB4C98D46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57A-60C0-47D3-9752-3192E42A95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0F6-8D1A-4F72-9447-1A244B8B2C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200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892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44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200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3892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F89-3D3E-431E-84A7-79EDE6D791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61396-E052-45E2-94FF-9D5BF5D7265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AAB38-D691-476E-A83E-076D83E4DA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EED4D-7964-4CA5-82B7-2D2C96580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5A6F-9747-44F3-8213-C089CAB4FD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1806D-DD53-440C-91CB-70893A2028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DA15B-7A1E-4E05-B1F7-80FCD20A0E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909B2-556E-4F28-A7E6-98F8EBE0CD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B87CF-4E6C-422A-98D0-C16C2B1FCC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89367-550C-453E-9652-47383F9193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D70BC-8DC1-4F73-A362-C196940BFE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E2F47-F01F-47DA-A57E-4B6795E790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A9B52-4CE6-41A6-BCD4-AAA449CA03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200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3892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44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200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3892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CA0A6-18DF-4FED-9865-36BAAD965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207F-8128-422A-8789-622833153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EC3C-4C8A-4112-B4D6-BC903E2F6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8066-16E3-444D-84A3-B4DE91164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3582-2776-428A-A39A-DFD060F61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E89A-DEAD-443F-BA7B-F7C3814A8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AR FINAL wZero"/>
          <p:cNvPicPr/>
          <p:nvPr/>
        </p:nvPicPr>
        <p:blipFill>
          <a:blip r:embed="rId2"/>
          <a:stretch/>
        </p:blipFill>
        <p:spPr>
          <a:xfrm>
            <a:off x="0" y="0"/>
            <a:ext cx="9144000" cy="96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13D3-DBF1-477F-A3B9-5593BBBC16E1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BAR FINAL wZero"/>
          <p:cNvPicPr/>
          <p:nvPr/>
        </p:nvPicPr>
        <p:blipFill>
          <a:blip r:embed="rId2"/>
          <a:stretch/>
        </p:blipFill>
        <p:spPr>
          <a:xfrm>
            <a:off x="0" y="0"/>
            <a:ext cx="9144000" cy="96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1CE9-FC20-49C3-830F-62F3362C94D6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98BE-DADD-4BFC-AFEA-153E734CE683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BB39-0C13-48F5-BD7E-850A25BE8224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nstantia"/>
              </a:rPr>
              <a:t>Looking Ahead: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onstantia"/>
              </a:rPr>
              <a:t>2013 NIPA Comprehensive Revision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85800" y="4952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Brent M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u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62120" y="5429160"/>
            <a:ext cx="76960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BEA Advisory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Washington,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May 11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Intellectual Property Product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Proposed new presentation of NIPA private fixed investment tables: 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29040" indent="-329040">
              <a:spcBef>
                <a:spcPts val="15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Nonresidential fixed investment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Structure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Equipment (no longer including software)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Intellectual property product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2" marL="1097280" indent="-2192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Software (currently included with equipment)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2" marL="1097280" indent="-2192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Research and development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2" marL="1097280" indent="-2192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Entertainment, literary, and artistic originals</a:t>
            </a:r>
            <a:br>
              <a:rPr sz="2400"/>
            </a:b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3A3C-119C-4D44-8EDC-67679E314B5E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7FD3-C69A-4D6A-B903-59B1EA224B69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Defined-benefit pension plan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Current NIPA treatment treats employer contributions as compensation (cash based)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Problems with current treatment: 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98400" indent="-268560"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Underfunded and unfunded pension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98400" indent="-268560"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Volatility of contribution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98400" indent="-268560"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Disconnect with economic principl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roposed measure is accrual based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Marshall Reinsdorf will present detailed discussion of proposal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F7DA-0671-490F-A497-96E826555401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Banking service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For financial services furnished without payment by commercial banks, expected credit losses will be excluded from borrower servic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11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Avoid spurious volatility in splitting total financial services without payment between depositor and borrower servic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11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Future work:  Extend the reference rate approach beyond commercial banks to thrif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ffect of smoothing and defaul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djustment on borrower servic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3595-5A83-4ADA-85E6-CB1DF372034A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ontent Placeholder 4" descr=""/>
          <p:cNvPicPr/>
          <p:nvPr/>
        </p:nvPicPr>
        <p:blipFill>
          <a:blip r:embed="rId1"/>
          <a:stretch/>
        </p:blipFill>
        <p:spPr>
          <a:xfrm>
            <a:off x="231840" y="1219320"/>
            <a:ext cx="8607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D1A9-DDA5-482C-AD23-7BDA7B9D4BF8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osts of ownership transfer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Real estate brokers’ commissions on structures are currently classified as fixed investment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-3258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The revised </a:t>
            </a: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SNA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 clarifies the scope and measurement of ownership transfer costs: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Provides a more consistent accounting of how these costs should be reflected in measures of capital stock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Depreciate costs of acquiring an asset over the period the asset is expected to be held by the purchaser (rather than over the whole life of the asset)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Before the releas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Additional information will be provided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review” articles in </a:t>
            </a: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Survey 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on the conceptual and methodological chang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nformation posted on Web site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Meetings with data user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Questions/comments/feedback?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5209-D379-4563-9204-36631AEBF470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Overview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Last May, we introduced tentative plans for 2013 comprehensive revision. Now we are able to provide more detail on the proposed change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32640" indent="-332640">
              <a:spcBef>
                <a:spcPts val="4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onstantia"/>
            </a:endParaRPr>
          </a:p>
          <a:p>
            <a:pPr marL="332640" indent="-33264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lan includes coordinated release of revised NIPAs and 2007 Benchmark Input-Output Accounts, which will be fully integrated.  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32640" indent="-332640">
              <a:spcBef>
                <a:spcPts val="4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onstantia"/>
            </a:endParaRPr>
          </a:p>
          <a:p>
            <a:pPr marL="332640" indent="-33264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Discussion of major proposed conceptual chang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32640" indent="-33264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32640" indent="-33264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3542-B4F6-43C9-8C0E-30EEDE694179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Why conduct a comprehensive revision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440" y="129492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7f"/>
                </a:solidFill>
                <a:latin typeface="Constantia"/>
              </a:rPr>
              <a:t>Incorporates benchmark source data</a:t>
            </a:r>
            <a:endParaRPr b="0" lang="en-US" sz="2600" spc="-1" strike="noStrike">
              <a:solidFill>
                <a:srgbClr val="00267f"/>
              </a:solidFill>
              <a:latin typeface="Constantia"/>
            </a:endParaRPr>
          </a:p>
          <a:p>
            <a:pPr lvl="1" marL="698400" indent="-268560"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2007 Benchmark Input-Output Accounts and Economic Census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lvl="1" marL="698400" indent="-268560"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Other major source data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lvl="1" marL="698400" indent="-268560"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Flexible annual revision in 2011 allowed us to incorporate some data from economic census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64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7f"/>
                </a:solidFill>
                <a:latin typeface="Constantia"/>
              </a:rPr>
              <a:t>Statistical revisions to GDP, GDI, statistical discrepancy</a:t>
            </a:r>
            <a:endParaRPr b="0" lang="en-US" sz="26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64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7f"/>
                </a:solidFill>
                <a:latin typeface="Constantia"/>
              </a:rPr>
              <a:t>Conceptual revisions</a:t>
            </a:r>
            <a:endParaRPr b="0" lang="en-US" sz="2600" spc="-1" strike="noStrike">
              <a:solidFill>
                <a:srgbClr val="00267f"/>
              </a:solidFill>
              <a:latin typeface="Constantia"/>
            </a:endParaRPr>
          </a:p>
          <a:p>
            <a:pPr lvl="1" marL="698400" indent="-268560"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Reflect updated international guidelines: </a:t>
            </a:r>
            <a:r>
              <a:rPr b="0" i="1" lang="en-US" sz="2200" spc="-1" strike="noStrike">
                <a:solidFill>
                  <a:srgbClr val="00267f"/>
                </a:solidFill>
                <a:latin typeface="Constantia"/>
              </a:rPr>
              <a:t>System of National Accounts 2008 (SNA).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64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7f"/>
                </a:solidFill>
                <a:latin typeface="Constantia"/>
              </a:rPr>
              <a:t>Improvements to tables and presentation of data</a:t>
            </a:r>
            <a:endParaRPr b="0" lang="en-US" sz="26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1D71-0678-4C08-A802-F45EE3CEEC87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561F-2457-4339-9CB1-5E81E79E31E6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Proposed major conceptual change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Capitalization of research and development (R&amp;D)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Capitalization of entertainment, literary, and artistic original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Accrual measures for defined-benefit pension plan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Improved measures of banking service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New approach for measuring the costs of ownership transfer 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FD29-1529-42DF-91A6-42F642A7DF6F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apitalizing R&amp;D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R&amp;D activities create intellectual property products that have the characteristics of fixed assets: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spcBef>
                <a:spcPts val="4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Ownership rights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spcBef>
                <a:spcPts val="4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Long-lasting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spcBef>
                <a:spcPts val="4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Used in production process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marL="339480" indent="-339480">
              <a:spcBef>
                <a:spcPts val="15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BEA published first R&amp;D satellite account in 1994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39480" indent="-339480">
              <a:spcBef>
                <a:spcPts val="15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After hiatus, work on R&amp;D satellite account resumed in mid 2000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spcBef>
                <a:spcPts val="4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Satellite account published in 2006, 2007 and 2010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spcBef>
                <a:spcPts val="15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In 2013, R&amp;D will be capitalized in the core national and industry account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67f"/>
              </a:solidFill>
              <a:latin typeface="Constanti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E782-4E5B-43F2-B6F4-64D13FC761F8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rom R&amp;D expenditures to GDP impacts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dentify R&amp;D investment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Sum R&amp;D input costs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onstantia"/>
              </a:rPr>
              <a:t>Remove double-counting</a:t>
            </a:r>
            <a:endParaRPr b="0" lang="en-US" sz="1800" spc="-1" strike="noStrike">
              <a:solidFill>
                <a:srgbClr val="00267f"/>
              </a:solidFill>
              <a:latin typeface="Constanti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onstantia"/>
              </a:rPr>
              <a:t>Include depreciation of other fixed assets used to produce R&amp;D</a:t>
            </a:r>
            <a:endParaRPr b="0" lang="en-US" sz="1800" spc="-1" strike="noStrike">
              <a:solidFill>
                <a:srgbClr val="00267f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Assign investment to owning sector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Deflate nominal investment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Estimate R&amp;D capital stocks by owner 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Create capital stocks with perpetual inventory method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GDP impac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Private business sector GDP increases by new investment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Government and private nonprofit sector GDP increases by consumption of fixed capital on the stock of R&amp;D capital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Summary of impacts: 2007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E927-A0D7-41BF-B79F-F3403925C1AA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8600" y="1295280"/>
          <a:ext cx="8763120" cy="4691160"/>
        </p:xfrm>
        <a:graphic>
          <a:graphicData uri="http://schemas.openxmlformats.org/drawingml/2006/table">
            <a:tbl>
              <a:tblPr/>
              <a:tblGrid>
                <a:gridCol w="7543800"/>
                <a:gridCol w="1219320"/>
              </a:tblGrid>
              <a:tr h="652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DP Impacts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billions of doll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DP (as published in the NIP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7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u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Business own-account and purchased R&amp;D inve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9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2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Software overlap adju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52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u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CFC on government and nonprofit R&amp;D ass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2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DP, with R&amp;D as inve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7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52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on GDP of capitalizing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R&amp;D implementation plan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440" y="12189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Prices of R&amp;D output are unobserved; output is heterogeneous; most is produced on own-account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Input-cost price indexes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Adjustments for productivity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Economic depreciation measures the value of the capital used up in production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Industry-specific depreciation rates for business R&amp;D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Government and nonprofit depreciation rates based on the business R&amp;D model or on research about the production cycle for certain Federal defense and nondefense assets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Work underway to develop quarterly indicator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71E1-4550-4F75-8F51-9DE597D07D83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F0D3-2FE8-4000-8E84-A386F661032A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Entertainment, literary, and artistic originals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Original films, sound recordings, manuscripts, etc., that can be used for the production and sale of copi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SNA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 recommends that they be capitalized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Estimates for several types, including: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Motion picture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Television program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Music compositions and recording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Book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GDP impact for 2007—about $70 billion, or 0.5 percent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June 2011 </a:t>
            </a: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Survey 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article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8:33:25Z</dcterms:created>
  <dc:creator>bealocaladmin</dc:creator>
  <dc:description/>
  <dc:language>en-US</dc:language>
  <cp:lastModifiedBy>Windows User</cp:lastModifiedBy>
  <cp:lastPrinted>2012-05-02T14:46:09Z</cp:lastPrinted>
  <dcterms:modified xsi:type="dcterms:W3CDTF">2012-05-09T15:48:16Z</dcterms:modified>
  <cp:revision>7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26498197</vt:r8>
  </property>
  <property fmtid="{D5CDD505-2E9C-101B-9397-08002B2CF9AE}" pid="3" name="_AuthorEmail">
    <vt:lpwstr>Brent.Moulton@bea.gov</vt:lpwstr>
  </property>
  <property fmtid="{D5CDD505-2E9C-101B-9397-08002B2CF9AE}" pid="4" name="_AuthorEmailDisplayName">
    <vt:lpwstr>Moulton, Brent</vt:lpwstr>
  </property>
  <property fmtid="{D5CDD505-2E9C-101B-9397-08002B2CF9AE}" pid="5" name="_EmailSubject">
    <vt:lpwstr>My Advisory committee slides</vt:lpwstr>
  </property>
  <property fmtid="{D5CDD505-2E9C-101B-9397-08002B2CF9AE}" pid="6" name="_NewReviewCycle">
    <vt:lpwstr/>
  </property>
</Properties>
</file>