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E715-72CB-4DA1-BDB1-89B5CA1D1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E4EF-6880-43A7-BDCF-27846222B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AF21-8273-4F21-9FA8-6E7C9A180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9B27-3FA5-40DA-82F1-044496BE1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8171-8DD9-4E63-9B4A-EF1CA8A0B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6343-7DCE-494E-AD88-0B2D36EEB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1CF2-7737-435A-8900-1187B4FE0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E0A1-D168-4CA0-BF00-A13DD4F12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2D5E-5B15-49C5-A485-4D8AFC31F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92DC-F928-433D-A421-A59F902A0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1C9D-953E-4004-9943-BE8347C30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C343-B0D0-4884-AD99-85365999E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8D79-7D31-4606-9780-459EFABECE92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e9d1"/>
                </a:solidFill>
                <a:latin typeface="Trebuchet MS"/>
              </a:rPr>
              <a:t>Flexible Annual Revision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124080"/>
            <a:ext cx="78501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ian C. M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hief, Government Divis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4724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495680"/>
            <a:ext cx="7086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National Economic Accounts Data Users’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New York, 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rch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What are Flexible Annual Revisions?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769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jor definitional and statistical changes are incorporated into the national and industry accounts on a flow basis, rather than every five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nual revisions are not limited to the three most recent years—revisions can be incorporated for all peri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05E3-9B69-463B-9339-1B11CD1EF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dvantages of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523520"/>
            <a:ext cx="77691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data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timely delivery of revision resul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wer changes to digest at one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up-to-date sets of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BE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tter planning and spreading of workloa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uced pressures on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flexibility for introducing chan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221-F209-482D-A86C-DB8A8C39C3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Timing of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eduled to begin in 2010, after the next comprehensive revision to the NIPAs and the Annual Industry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w procedures being put into place prior to 2010 to ensure a smooth transi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ustry-National Steering Committe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-line te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E3F7-256F-4548-A618-7197D5B5C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xamples of possible proposal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8002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tentially implement before 20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grated BEA-BLS production accou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d real insurance estimates:  Separately deflated premiums and expected lo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d measures of motor vehicle outpu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lement with the 2007 Benchmark I-O T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italization of R&amp;D expendi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assification of government enterprises by sec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CFEE-9943-49B5-B4A5-A8DEB8CDDB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Background on Integration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ustry-National Integration Team established in early 200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wo major objec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process for incorporating revisions into the national and industry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 information by establishing a “feedback” mechanism between the industry and national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86EB-0A73-40AF-B4D5-FF7E9F178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Gains from feedback look promising …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CE for Sho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minal growth for 1997-2004 would be revised down from 4.2 percent to 3.0 perc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ue to changes in the sales-mix by kind of sto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CE for Telev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minal level for 2002 would be increased by $3 billion (about 20 percen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ue to strong import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8B41-52E0-41CE-97C9-475A22619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ssues for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ade-off between more years subject to revision vs. receiving revisions on a flow bas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ions to the reference year for chained-dollars and indexes could trigger revisions to real estimates for long perio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nchronizing revisions between the annual industry accounts and the NIPAs for long perio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7457-7554-4602-A6E8-814511B21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07-10-12T20:27:55Z</dcterms:modified>
  <cp:revision>1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2874724</vt:r8>
  </property>
  <property fmtid="{D5CDD505-2E9C-101B-9397-08002B2CF9AE}" pid="3" name="_AuthorEmail">
    <vt:lpwstr>Brian.Moyer@bea.gov</vt:lpwstr>
  </property>
  <property fmtid="{D5CDD505-2E9C-101B-9397-08002B2CF9AE}" pid="4" name="_AuthorEmailDisplayName">
    <vt:lpwstr>Moyer, Brian</vt:lpwstr>
  </property>
  <property fmtid="{D5CDD505-2E9C-101B-9397-08002B2CF9AE}" pid="5" name="_EmailSubject">
    <vt:lpwstr>Change to National Accounts Page</vt:lpwstr>
  </property>
  <property fmtid="{D5CDD505-2E9C-101B-9397-08002B2CF9AE}" pid="6" name="_NewReviewCycle">
    <vt:lpwstr/>
  </property>
</Properties>
</file>