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8AF2C-FF09-4E77-9C1C-2CBA4CC3D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638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2D58-708D-4544-B2B8-25D585A7B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D621-83F3-4D6E-9FBF-77294A560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56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48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56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48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2F18-45EE-4EE3-8D4C-F4B58A968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9CA4-540A-4C04-8CB9-21D62E64E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24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000" y="3638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24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56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480" y="1370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00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56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480" y="3638160"/>
            <a:ext cx="250128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CC158-8206-4601-B0ED-59B8165B0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1C18-BADC-4243-AE84-02CE6381E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9981-7789-49FB-9277-1D345B546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FA09-352B-479A-9239-58225E183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6A3F-653E-4B4F-A98B-0BFFEB8FAB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3638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1DA6-33DB-4380-9E23-8C86C0163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370160"/>
            <a:ext cx="3791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638160"/>
            <a:ext cx="7769160" cy="20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BA59-B403-4FB7-BD6D-2C522FAD6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7000" y="6035760"/>
            <a:ext cx="8812080" cy="669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B038-046F-4B5E-833F-3C6C1430C2E1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6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55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920" y="5711760"/>
            <a:ext cx="8812080" cy="831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9d1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7e9d1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e9d1"/>
                </a:solidFill>
                <a:latin typeface="Trebuchet MS"/>
              </a:rPr>
              <a:t>Flexible Annual Revisions</a:t>
            </a: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3124080"/>
            <a:ext cx="785016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Brian C. Mo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hief, Government Division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4724280"/>
            <a:ext cx="4419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4495680"/>
            <a:ext cx="70866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rebuchet MS"/>
              </a:rPr>
              <a:t>National Economic Accounts Data Users’ Con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rebuchet MS"/>
              </a:rPr>
              <a:t>New York, 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rch 15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What are Flexible Annual Revisions?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000" y="1752480"/>
            <a:ext cx="77691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jor definitional and statistical changes are incorporated into the national and industry accounts on a flow basis, rather than every five yea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nual revisions are not limited to the three most recent years—revisions can be incorporated for all period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4BCD8-5984-41B5-9A44-CD0DC3C9C6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Advantages of Flexible Annual Revisions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1523520"/>
            <a:ext cx="77691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r data use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re timely delivery of revision resul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ewer changes to digest at one tim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re up-to-date sets of accou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r BE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etter planning and spreading of workloa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duced pressures on staf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re flexibility for introducing chang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893C-EFD9-4F53-ABB6-CCC3220A7E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Timing of Flexible Annual Revisions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cheduled to begin in 2010, after the next comprehensive revision to the NIPAs and the Annual Industry Account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ew procedures being put into place prior to 2010 to ensure a smooth transi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dustry-National Steering Committe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f-line tes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5BAC-F277-4C91-B07E-7F56C87B86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Examples of possible proposals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80024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tentially implement before 2013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grated BEA-BLS production accou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d real insurance estimates:  Separately deflated premiums and expected loss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d measures of motor vehicle outpu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mplement with the 2007 Benchmark I-O T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pitalization of R&amp;D expenditur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assification of government enterprises by secto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4A02-7FB4-4197-A731-FABB8D213C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Background on Integration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dustry-National Integration Team established in early 2005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wo major objectiv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 the process for incorporating revisions into the national and industry accou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hare information by establishing a “feedback” mechanism between the industry and national accou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D9426-8DB9-4905-AD13-BBD5285BED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Gains from feedback look promising …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000" y="1370160"/>
            <a:ext cx="776916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CE for Sho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minal growth for 1997-2004 would be revised down from 4.2 percent to 3.0 perc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ue to changes in the sales-mix by kind of sto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CE for Television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minal level for 2002 would be increased by $3 billion (about 20 percen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ue to strong import grow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B82B-841E-407E-A6E1-DE4FB6FF96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Issues for Flexible Annual Revisions</a:t>
            </a:r>
            <a:endParaRPr b="1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Aft>
                <a:spcPts val="700"/>
              </a:spcAft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rade-off between more years subject to revision vs. receiving revisions on a flow basi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Aft>
                <a:spcPts val="700"/>
              </a:spcAft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visions to the reference year for chained-dollars and indexes could trigger revisions to real estimates for long period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Aft>
                <a:spcPts val="700"/>
              </a:spcAft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ynchronizing revisions between the annual industry accounts and the NIPAs for long period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91C1-B9F0-436D-9377-F7EF290F7A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18:36:32Z</dcterms:created>
  <dc:creator>Cindy Vojtech</dc:creator>
  <dc:description/>
  <dc:language>en-US</dc:language>
  <cp:lastModifiedBy>U.S. Department of Commerce</cp:lastModifiedBy>
  <dcterms:modified xsi:type="dcterms:W3CDTF">2007-10-12T20:27:55Z</dcterms:modified>
  <cp:revision>1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02874724</vt:r8>
  </property>
  <property fmtid="{D5CDD505-2E9C-101B-9397-08002B2CF9AE}" pid="3" name="_AuthorEmail">
    <vt:lpwstr>Brian.Moyer@bea.gov</vt:lpwstr>
  </property>
  <property fmtid="{D5CDD505-2E9C-101B-9397-08002B2CF9AE}" pid="4" name="_AuthorEmailDisplayName">
    <vt:lpwstr>Moyer, Brian</vt:lpwstr>
  </property>
  <property fmtid="{D5CDD505-2E9C-101B-9397-08002B2CF9AE}" pid="5" name="_EmailSubject">
    <vt:lpwstr>Change to National Accounts Page</vt:lpwstr>
  </property>
  <property fmtid="{D5CDD505-2E9C-101B-9397-08002B2CF9AE}" pid="6" name="_NewReviewCycle">
    <vt:lpwstr/>
  </property>
</Properties>
</file>