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6238-13A4-4674-B339-E98CE71EE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844-E8B5-4E44-84A8-6EC480834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B26D-33D5-4C8D-AA99-732FC17A7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F0CF-C29C-4ADE-B6D0-1785AB834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07B0-BFE7-4557-A4F9-E3AA92B4D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E692-B8DC-4484-9095-7163569B9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8AD9-1AD0-47C7-9019-5C52F6A28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6E76-A554-416A-BFD6-55F460EA4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D6C1-29AA-455C-90D4-03555A95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2D2C-B5B5-4D99-BBC7-2BB94A57A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85F1-FD66-420C-9575-6C91267B9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C045-6E70-4A0A-882C-B355F41F2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756C-DB52-4DE7-B398-E392C646200A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ational Economic Accounts:  What’s New and What’s Coming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2055960" y="4098960"/>
            <a:ext cx="632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arol E. Moy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ational Economic Accounts Data Users’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October 15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urpose of this Users’ Conferenc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BEA to hear from you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us to provide information to you abou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’s national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’s pla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that BEA fa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 give you an opportunity to meet u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6FD2-0154-4AD8-BCFA-981DF58C8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A Strategic Pla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orities for national economic accou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dressing data gaps and other shortcom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ing consistency and integration with other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ing consistency with international standar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600E-C383-483B-BE3B-310BF7691D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New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earch and development satellite acco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pdated estimates released September 2007 (article in October 2007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Survey of Current Busin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rst look at industry-level, regional, and international estimates of R&amp;D investme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 for implementation in benchmark input-output accounts and NIPAs for 2012/20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grated NIPA and Flow of Funds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 project by BEA and Federal Reserve staff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ticle in February 2007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Surve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s for regular update of estima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E64C-AF99-41BA-9265-0232FA836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New?  (cont’d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proved documentation for user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paper reconciling growth rates between the CPI and the PCE price index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“Measuring the Economy:  A Primer on GDP and the National Income and Product Accounts.”  This document is for novice users of the national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“Introduction to the NIPAs (MP-1).”  This is a more comprehensive introduction to the national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3D22-4696-496A-B5A6-2029F6282D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Ongoing Research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lth satellite accou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eed for improved measures to guide policy discus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assification of personal consumption expendit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dernization &amp; improved international compa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sues in compensation and profi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6F9B-603B-490A-8AC7-6073EB34B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Coming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IPA comprehensive revision –July 2009 — incorporate 2002 benchmark input-output account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dated international standards —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System of National Account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(200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ginning in 2010 — flexible annual revi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64F4-1B8A-4701-BFC6-1F83C99274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trategic project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ajor conceptual changes that will be fully implemented after 2009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italize research &amp; develo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heduled for 2013 comprehensive revi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duction acco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 of updated S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 work with BLS productivity progr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imates of labor and capital services for all sector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48B5-9DFB-4A4F-B38F-09D7FE464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BEA</cp:lastModifiedBy>
  <dcterms:modified xsi:type="dcterms:W3CDTF">2007-10-15T12:44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2303444</vt:r8>
  </property>
  <property fmtid="{D5CDD505-2E9C-101B-9397-08002B2CF9AE}" pid="3" name="_AuthorEmail">
    <vt:lpwstr>Brian.Moyer@bea.gov</vt:lpwstr>
  </property>
  <property fmtid="{D5CDD505-2E9C-101B-9397-08002B2CF9AE}" pid="4" name="_AuthorEmailDisplayName">
    <vt:lpwstr>Moyer, Brian</vt:lpwstr>
  </property>
  <property fmtid="{D5CDD505-2E9C-101B-9397-08002B2CF9AE}" pid="5" name="_EmailSubject">
    <vt:lpwstr>Change to National Accounts Page</vt:lpwstr>
  </property>
  <property fmtid="{D5CDD505-2E9C-101B-9397-08002B2CF9AE}" pid="6" name="_NewReviewCycle">
    <vt:lpwstr/>
  </property>
</Properties>
</file>