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DB7A-AE13-4015-BB85-F4ACFE4B7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B5E7-079D-4D50-B32F-0572EC2E3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33E8-3022-4B72-9A94-0A8885864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8E8C-2C34-467D-A204-8FDB2C2DE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B51A-5F2C-420B-8455-1A52DA9CF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2D75-31B5-4E13-AB6B-91EC500B4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4D0F-A3D2-403C-870F-398CF03B97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CEA2-D29B-4D6C-A8E6-629D33A4B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2B23-389E-4E27-BB1A-C8B91C389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5A66-A1F6-4C43-814C-03F8C68D5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DE90-21CB-4393-BC9C-F950BDEBF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3F61-A25A-477B-B3CB-88A504F00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8953-39C2-43F5-9E92-5C6FBFBB079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National Economic Accounts:  What’s New and What’s Coming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11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2055960" y="4098960"/>
            <a:ext cx="632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Carol E. Moy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ational Economic Accounts Data Users’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October 15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Purpose of this Users’ Conference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BEA to hear from you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 us to provide information to you abou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’s national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A’s pla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that BEA fa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o give you an opportunity to meet u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8902-04B3-4F17-8D03-CB0FD5400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BEA Strategic Plan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iorities for national economic account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dressing data gaps and other shortcom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ing consistency and integration with other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roving consistency with international standar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EF1D-99DF-4738-B3DA-C801E495C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New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earch and development satellite acco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pdated estimates released September 2007 (article in October 2007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Survey of Current Busin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rst look at industry-level, regional, and international estimates of R&amp;D investme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 for implementation in benchmark input-output accounts and NIPAs for 2012/2013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grated NIPA and Flow of Funds Account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 project by BEA and Federal Reserve staff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rticle in February 2007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Survey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lans for regular update of estima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34A8-5A61-4941-8BF0-834F851E4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New?  (cont’d)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mproved documentation for users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paper reconciling growth rates between the CPI and the PCE price index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“Measuring the Economy:  A Primer on GDP and the National Income and Product Accounts.”  This document is for novice users of the national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ease of “Introduction to the NIPAs (MP-1).”  This is a more comprehensive introduction to the national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D3AE-FE1B-4022-948D-E50CD7CC5C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Ongoing Research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ealth satellite accou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need for improved measures to guide policy discus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assification of personal consumption expenditur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odernization &amp; improved international comparabilit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ssues in compensation and profi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5FF35-2E04-4922-A23B-4DC015C482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What’s Coming?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IPA comprehensive revision –July 2009 — incorporate 2002 benchmark input-output account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pdated international standards — </a:t>
            </a:r>
            <a:r>
              <a:rPr b="0" i="1" lang="en-US" sz="3200" spc="-1" strike="noStrike">
                <a:solidFill>
                  <a:srgbClr val="000000"/>
                </a:solidFill>
                <a:latin typeface="Trebuchet MS"/>
              </a:rPr>
              <a:t>System of National Account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(2008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eginning in 2010 — flexible annual revision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2108-8038-4817-9A31-5F073E6404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Strategic projects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Major conceptual changes that will be fully implemented after 2009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italize research &amp; developme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heduled for 2013 comprehensive revis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duction accou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t of updated SN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oint work with BLS productivity progra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imates of labor and capital services for all sector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673C-1333-4D51-A066-604ADAEC69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BEA</cp:lastModifiedBy>
  <dcterms:modified xsi:type="dcterms:W3CDTF">2007-10-15T12:44:3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2303444</vt:r8>
  </property>
  <property fmtid="{D5CDD505-2E9C-101B-9397-08002B2CF9AE}" pid="3" name="_AuthorEmail">
    <vt:lpwstr>Brian.Moyer@bea.gov</vt:lpwstr>
  </property>
  <property fmtid="{D5CDD505-2E9C-101B-9397-08002B2CF9AE}" pid="4" name="_AuthorEmailDisplayName">
    <vt:lpwstr>Moyer, Brian</vt:lpwstr>
  </property>
  <property fmtid="{D5CDD505-2E9C-101B-9397-08002B2CF9AE}" pid="5" name="_EmailSubject">
    <vt:lpwstr>Change to National Accounts Page</vt:lpwstr>
  </property>
  <property fmtid="{D5CDD505-2E9C-101B-9397-08002B2CF9AE}" pid="6" name="_NewReviewCycle">
    <vt:lpwstr/>
  </property>
</Properties>
</file>