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7D34-103B-4CC6-B398-646475EECD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BC8AE-4298-41E1-B2B2-B72C7DF3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1DF7-5C5B-4700-9FE0-46E3D2AC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72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8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096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72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8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78C6-37D6-4EEB-9828-488D55D111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57000" y="641160"/>
            <a:ext cx="69562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ABA6-DA7C-4C6D-B3F2-F66ADF81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72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3800" y="181728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096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72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3800" y="3766320"/>
            <a:ext cx="229140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D9F6-F5B4-4BCC-8636-ED84B386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DB8ED-DC25-43AC-B8CE-C173292D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B71E-7E1E-4772-81D0-A918A3B5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57000" y="641160"/>
            <a:ext cx="695628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4873-4551-4CD2-AB27-B29D5002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4EAC-BA5F-4A5B-ACD6-E6D7548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7760" y="376632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F445-2D69-4E6A-A1CA-1BA2CE65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09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7760" y="1817280"/>
            <a:ext cx="347292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0960" y="3766320"/>
            <a:ext cx="7116840" cy="177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EB2A7-2039-4D3D-8632-FBBE4D0C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3080" y="324000"/>
            <a:ext cx="1109520" cy="1090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0960" y="181728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ffcc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7240" y="647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A357-06CB-479D-BFE1-699BB7819778}" type="datetime">
              <a:rPr b="1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tistics Depart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86600" y="6495840"/>
            <a:ext cx="19051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AC3C-E902-465E-A805-71F8E2D3F62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19400" y="190440"/>
            <a:ext cx="1224000" cy="11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1760" y="18093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47920" y="167652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Government Accounts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Government Finance Statistics Manual 2001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nd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the update  of 1993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System of National Account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Seco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2006 BEA Government Statistics Users Conference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ashington, September 14, 2006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ucie Laliberté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uty Director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lvl="1" marL="457200"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F Statistics Department 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32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Introduction 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GFSM 2001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nd the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TFHPS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Update of SNA 93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International accounting standard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Pilots on implementing </a:t>
            </a:r>
            <a:r>
              <a:rPr b="0" i="1" lang="fr-CA" sz="3200" spc="-1" strike="noStrike">
                <a:solidFill>
                  <a:srgbClr val="ffcc00"/>
                </a:solidFill>
                <a:latin typeface="Arial"/>
              </a:rPr>
              <a:t>GFSM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Way forwar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Outline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9988-A838-4A79-A92C-FEFA9B3D4C07}" type="slidenum">
              <a:t>2</a:t>
            </a:fld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Introduction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0960" y="1371240"/>
            <a:ext cx="7116840" cy="37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Government Finance Statistics Manual,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MF Manual harmonized with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SNA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ask Force on Harmonization of Public Sector Accounting (TFHPSA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haired by the IMF with the OECD as Secretariat with international and national senior statisticians and senior accounting policy officials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Oct. 03--March 06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http://www.imf.org/external/np/sta/tfhpsa/2006/03/pdf/030806a.pdf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AC26-657C-4FA3-AFA9-06E2A10ABB9E}" type="slidenum">
              <a:t>3</a:t>
            </a:fld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716292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ivate/Public/Government statistical sector delineation based on a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efinition of control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oser to that of account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Tax Revenue and Tax Credi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pecial Purposes Entities and Restructuring agencies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Update of SNA 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1B97-E825-472F-81FE-7FF6934993EC}" type="slidenum">
              <a:t>4</a:t>
            </a:fld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Update of SNA 93 </a:t>
            </a:r>
            <a:r>
              <a:rPr b="1" lang="fr-CA" sz="2000" spc="-1" strike="noStrike">
                <a:solidFill>
                  <a:srgbClr val="ffcc00"/>
                </a:solidFill>
                <a:latin typeface="Times New Roman"/>
              </a:rPr>
              <a:t>(continued)</a:t>
            </a:r>
            <a:endParaRPr b="1" lang="en-US" sz="2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60958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Guarantee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Transactions of government with its public corporations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Debt and Debt Reorganizatio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00"/>
                </a:solidFill>
                <a:latin typeface="Arial"/>
              </a:rPr>
              <a:t>Chapter on government and public sector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ontinuous involvement in update process </a:t>
            </a:r>
            <a:r>
              <a:rPr b="0" lang="fr-CA" sz="20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31AB-2DC5-4185-BFF7-BEF7C300A5CE}" type="slidenum">
              <a:t>5</a:t>
            </a:fld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ffcc00"/>
                </a:solidFill>
                <a:latin typeface="Times New Roman"/>
              </a:rPr>
              <a:t>International Accounting Standards</a:t>
            </a:r>
            <a:endParaRPr b="1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69339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Extensive documentation on the International Public Sector Accounting Standards (IPSAS) and Government Statistical Guideline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evelopment of a draft accounting standard on the General Government Sector (ED 28)</a:t>
            </a:r>
            <a:r>
              <a:rPr b="0" lang="fr-CA" sz="2800" spc="-1" strike="noStrike">
                <a:solidFill>
                  <a:srgbClr val="ffcc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B3E20-308E-44AC-A2F7-65DAFF00D4D2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57360" y="380880"/>
            <a:ext cx="7205760" cy="64800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Times New Roman"/>
              </a:rPr>
              <a:t>Pilots on </a:t>
            </a:r>
            <a:r>
              <a:rPr b="1" i="1" lang="fr-CA" sz="3600" spc="-1" strike="noStrike">
                <a:solidFill>
                  <a:srgbClr val="ffcc00"/>
                </a:solidFill>
                <a:latin typeface="Times New Roman"/>
              </a:rPr>
              <a:t>GFSM 2001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ctive—To Standardize the Framework for fiscal analysis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utcome of November 2005 Board discussion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framework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FSM 2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3 Tables) will support fisc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FSM 200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ll lead to greater transparency and consis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 phased implement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pilot studies to illustrate useful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0 Countries identified for pilots (including USA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cess: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st existing data 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data gap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e with country authorities to impro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aborate with FAD to review policy implic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4E67-7434-4C6B-88B9-55B56019F6C8}" type="slidenum">
              <a:t>7</a:t>
            </a:fld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99cc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57000" y="641160"/>
            <a:ext cx="6956280" cy="647640"/>
          </a:xfrm>
          <a:prstGeom prst="rect">
            <a:avLst/>
          </a:prstGeom>
          <a:gradFill rotWithShape="0">
            <a:gsLst>
              <a:gs pos="0">
                <a:srgbClr val="3b3784"/>
              </a:gs>
              <a:gs pos="50000">
                <a:srgbClr val="4ab6e7"/>
              </a:gs>
              <a:gs pos="100000">
                <a:srgbClr val="3b3784"/>
              </a:gs>
            </a:gsLst>
            <a:lin ang="10800000"/>
          </a:gradFill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Times New Roman"/>
              </a:rPr>
              <a:t>Way forward</a:t>
            </a:r>
            <a:endParaRPr b="1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15880" y="1676520"/>
            <a:ext cx="65851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cc00"/>
                </a:solidFill>
                <a:latin typeface="Arial"/>
              </a:rPr>
              <a:t>Further implementation of </a:t>
            </a:r>
            <a:r>
              <a:rPr b="0" i="1" lang="fr-CA" sz="3200" spc="-1" strike="noStrike">
                <a:solidFill>
                  <a:srgbClr val="ffcc00"/>
                </a:solidFill>
                <a:latin typeface="Arial"/>
              </a:rPr>
              <a:t>GFSM 2001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6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Further convergence with international accounting standards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(e.g., private public partnership, accounting conceptual framework, accrued earnings from equity investment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p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ovisions and contingent liabilities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1CD0-490C-4F58-99F0-49FB4541EEAE}" type="slidenum">
              <a:t>8</a:t>
            </a:fld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8:25:48Z</dcterms:created>
  <dc:creator>llaliberte</dc:creator>
  <dc:description/>
  <dc:language>en-US</dc:language>
  <cp:lastModifiedBy>U.S. Department of Commerce</cp:lastModifiedBy>
  <dcterms:modified xsi:type="dcterms:W3CDTF">2006-10-11T14:33:19Z</dcterms:modified>
  <cp:revision>73</cp:revision>
  <dc:subject/>
  <dc:title>PARIS21 Task Team on Statistical Capacity Building (SCB) indica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1286172</vt:r8>
  </property>
  <property fmtid="{D5CDD505-2E9C-101B-9397-08002B2CF9AE}" pid="3" name="_AuthorEmail">
    <vt:lpwstr>Rebecca.Rider@bea.gov</vt:lpwstr>
  </property>
  <property fmtid="{D5CDD505-2E9C-101B-9397-08002B2CF9AE}" pid="4" name="_AuthorEmailDisplayName">
    <vt:lpwstr>Rider, Rebecca</vt:lpwstr>
  </property>
  <property fmtid="{D5CDD505-2E9C-101B-9397-08002B2CF9AE}" pid="5" name="_EmailEntryID">
    <vt:lpwstr>0000000093F707CE9035A84EA1A7649F1D173E43070014871F0AD125614C96749048C5E67D61000000675A3B000014871F0AD125614C96749048C5E67D61000001AE46530000</vt:lpwstr>
  </property>
  <property fmtid="{D5CDD505-2E9C-101B-9397-08002B2CF9AE}" pid="6" name="_EmailSubject">
    <vt:lpwstr>Updated File for Website</vt:lpwstr>
  </property>
  <property fmtid="{D5CDD505-2E9C-101B-9397-08002B2CF9AE}" pid="7" name="_NewReviewCycle">
    <vt:lpwstr/>
  </property>
  <property fmtid="{D5CDD505-2E9C-101B-9397-08002B2CF9AE}" pid="8" name="_PreviousAdHocReviewCycleID">
    <vt:r8>-1669222570</vt:r8>
  </property>
  <property fmtid="{D5CDD505-2E9C-101B-9397-08002B2CF9AE}" pid="9" name="_ReviewCycleID">
    <vt:r8>-277645073</vt:r8>
  </property>
  <property fmtid="{D5CDD505-2E9C-101B-9397-08002B2CF9AE}" pid="10" name="_TentativeReviewCycleID">
    <vt:r8>-277645073</vt:r8>
  </property>
</Properties>
</file>