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656C-3E2A-466D-A20E-692BAA997E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711684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0960" y="3766320"/>
            <a:ext cx="711684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A7BAA-D03E-4159-92AF-895F64F5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0960" y="376632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7760" y="376632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C5750-B1DE-4DBA-A300-5CB99749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7200" y="181728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3800" y="181728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0960" y="376632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7200" y="376632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3800" y="376632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5739-6E17-4B8B-9497-4129BF0D5D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0960" y="1817280"/>
            <a:ext cx="7116840" cy="37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711684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57000" y="641160"/>
            <a:ext cx="69562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0960" y="376632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0960" y="1817280"/>
            <a:ext cx="7116840" cy="37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CFE2E-4C18-4439-A59A-8EE02BCD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7760" y="376632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0960" y="3766320"/>
            <a:ext cx="711684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711684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0960" y="3766320"/>
            <a:ext cx="711684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0960" y="376632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7760" y="376632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17200" y="181728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3800" y="181728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0960" y="376632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17200" y="376632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3800" y="376632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711684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5227-F8A5-4B25-9A3C-8EDEF366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7332-86D5-4DD6-A3AD-6E243E20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5B4B6-656E-4BB4-AA90-976E62DE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57000" y="641160"/>
            <a:ext cx="69562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C8A37-85A0-468F-8448-4B2DAA98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0960" y="376632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E4CB-B024-431D-8235-FDB20AFA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7760" y="376632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D7797-ED72-4530-B85A-16C7A929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0960" y="3766320"/>
            <a:ext cx="711684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4E5FF-E5F7-499E-BA82-FDA28790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43080" y="324000"/>
            <a:ext cx="1109520" cy="1090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gradFill rotWithShape="0">
            <a:gsLst>
              <a:gs pos="0">
                <a:srgbClr val="3b3784"/>
              </a:gs>
              <a:gs pos="50000">
                <a:srgbClr val="4ab6e7"/>
              </a:gs>
              <a:gs pos="100000">
                <a:srgbClr val="3b3784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0960" y="1817280"/>
            <a:ext cx="711684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ffcc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240" y="647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0506-4659-4E4B-80D6-7CF3CE74821C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atistics Depar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86600" y="6495840"/>
            <a:ext cx="19051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DA04-88E1-4056-8760-0FBFF9D609D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19400" y="190440"/>
            <a:ext cx="1224000" cy="118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1760" y="18093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47920" y="167652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Government Accounts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Government Finance Statistics Manual 2001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and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the update  of 1993 </a:t>
            </a: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System of National Accounts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 Secon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006 BEA Government Statistics Users Conference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ashington, September 14, 2006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lvl="1" marL="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ucie Laliberté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lvl="1" marL="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uty Director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lvl="1" marL="45720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F Statistics Department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238880" cy="32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Introduction 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GFSM 2001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nd the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TFHPSA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Update of SNA 9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Arial"/>
              </a:rPr>
              <a:t>International accounting standard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Arial"/>
              </a:rPr>
              <a:t>Pilots on implementing </a:t>
            </a:r>
            <a:r>
              <a:rPr b="0" i="1" lang="fr-CA" sz="3200" spc="-1" strike="noStrike">
                <a:solidFill>
                  <a:srgbClr val="ffcc00"/>
                </a:solidFill>
                <a:latin typeface="Arial"/>
              </a:rPr>
              <a:t>GFSM 200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Arial"/>
              </a:rPr>
              <a:t>Way forward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gradFill rotWithShape="0">
            <a:gsLst>
              <a:gs pos="0">
                <a:srgbClr val="3b3784"/>
              </a:gs>
              <a:gs pos="50000">
                <a:srgbClr val="4ab6e7"/>
              </a:gs>
              <a:gs pos="100000">
                <a:srgbClr val="3b3784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Outline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2BBF-AB6F-42C9-8FDF-B8DB50271FB3}" type="slidenum">
              <a:t>2</a:t>
            </a:fld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gradFill rotWithShape="0">
            <a:gsLst>
              <a:gs pos="0">
                <a:srgbClr val="3b3784"/>
              </a:gs>
              <a:gs pos="50000">
                <a:srgbClr val="4ab6e7"/>
              </a:gs>
              <a:gs pos="100000">
                <a:srgbClr val="3b3784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0960" y="1371240"/>
            <a:ext cx="711684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Government Finance Statistics Manual, 200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MF Manual harmonized with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SNA 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ask Force on Harmonization of Public Sector Accounting (TFHPSA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chaired by the IMF with the OECD as Secretariat with international and national senior statisticians and senior accounting policy officials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Oct. 03--March 06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http://www.imf.org/external/np/sta/tfhpsa/2006/03/pdf/030806a.pdf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FE4C-CCA3-4FDE-B91C-6424D1E2CCCB}" type="slidenum">
              <a:t>3</a:t>
            </a:fld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71629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ffcc0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ivate/Public/Government statistical sector delineation based on a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definition of control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oser to that of accounting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Tax Revenue and Tax Credi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Special Purposes Entities and Restructuring agencie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57360" y="380880"/>
            <a:ext cx="7205760" cy="648000"/>
          </a:xfrm>
          <a:prstGeom prst="rect">
            <a:avLst/>
          </a:prstGeom>
          <a:gradFill rotWithShape="0">
            <a:gsLst>
              <a:gs pos="0">
                <a:srgbClr val="3b3784"/>
              </a:gs>
              <a:gs pos="50000">
                <a:srgbClr val="4ab6e7"/>
              </a:gs>
              <a:gs pos="100000">
                <a:srgbClr val="3b3784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Times New Roman"/>
              </a:rPr>
              <a:t>Update of SNA 9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6BE03-FD83-4D6F-A11D-A4194BCBFCE6}" type="slidenum">
              <a:t>4</a:t>
            </a:fld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57360" y="380880"/>
            <a:ext cx="7205760" cy="648000"/>
          </a:xfrm>
          <a:prstGeom prst="rect">
            <a:avLst/>
          </a:prstGeom>
          <a:gradFill rotWithShape="0">
            <a:gsLst>
              <a:gs pos="0">
                <a:srgbClr val="3b3784"/>
              </a:gs>
              <a:gs pos="50000">
                <a:srgbClr val="4ab6e7"/>
              </a:gs>
              <a:gs pos="100000">
                <a:srgbClr val="3b3784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Times New Roman"/>
              </a:rPr>
              <a:t>Update of SNA 93 </a:t>
            </a:r>
            <a:r>
              <a:rPr b="1" lang="fr-CA" sz="2000" spc="-1" strike="noStrike">
                <a:solidFill>
                  <a:srgbClr val="ffcc00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142640"/>
            <a:ext cx="60958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Guarantees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Transactions of government with its public corporations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Debt and Debt Reorganization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Chapter on government and public sector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ntinuous involvement in update process </a:t>
            </a:r>
            <a:r>
              <a:rPr b="0" lang="fr-CA" sz="20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312A-67FD-46D7-90BA-4986E60AC6BC}" type="slidenum">
              <a:t>5</a:t>
            </a:fld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57360" y="380880"/>
            <a:ext cx="7205760" cy="648000"/>
          </a:xfrm>
          <a:prstGeom prst="rect">
            <a:avLst/>
          </a:prstGeom>
          <a:gradFill rotWithShape="0">
            <a:gsLst>
              <a:gs pos="0">
                <a:srgbClr val="3b3784"/>
              </a:gs>
              <a:gs pos="50000">
                <a:srgbClr val="4ab6e7"/>
              </a:gs>
              <a:gs pos="100000">
                <a:srgbClr val="3b3784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Times New Roman"/>
              </a:rPr>
              <a:t>International Accounting Standards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218960"/>
            <a:ext cx="69339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Extensive documentation on the International Public Sector Accounting Standards (IPSAS) and Government Statistical Guideline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Development of a draft accounting standard on the General Government Sector (ED 28)</a:t>
            </a:r>
            <a:r>
              <a:rPr b="0" lang="fr-CA" sz="2800" spc="-1" strike="noStrike">
                <a:solidFill>
                  <a:srgbClr val="ffcc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80CE-A800-4A3F-9CD6-02AF23FE1E5C}" type="slidenum">
              <a:t>6</a:t>
            </a:fld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57360" y="380880"/>
            <a:ext cx="7205760" cy="648000"/>
          </a:xfrm>
          <a:prstGeom prst="rect">
            <a:avLst/>
          </a:prstGeom>
          <a:gradFill rotWithShape="0">
            <a:gsLst>
              <a:gs pos="0">
                <a:srgbClr val="3b3784"/>
              </a:gs>
              <a:gs pos="50000">
                <a:srgbClr val="4ab6e7"/>
              </a:gs>
              <a:gs pos="100000">
                <a:srgbClr val="3b3784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Times New Roman"/>
              </a:rPr>
              <a:t>Pilots on </a:t>
            </a:r>
            <a:r>
              <a:rPr b="1" i="1" lang="fr-CA" sz="3600" spc="-1" strike="noStrike">
                <a:solidFill>
                  <a:srgbClr val="ffcc00"/>
                </a:solidFill>
                <a:latin typeface="Times New Roman"/>
              </a:rPr>
              <a:t>GFSM 2001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bjective—To Standardize the Framework for fiscal analysis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utcome of November 2005 Board discussion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rehensive framework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FSM 200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3 Tables) will support fiscal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FSM 200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ll lead to greater transparency and consist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a phased implement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pilot studies to illustrate useful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0 Countries identified for pilots (including USA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ocess: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st existing data 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 data gap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aborate with country authorities to improv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aborate with FAD to review policy implica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24BE-72A8-44EF-8267-E37F80E39063}" type="slidenum">
              <a:t>7</a:t>
            </a:fld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gradFill rotWithShape="0">
            <a:gsLst>
              <a:gs pos="0">
                <a:srgbClr val="3b3784"/>
              </a:gs>
              <a:gs pos="50000">
                <a:srgbClr val="4ab6e7"/>
              </a:gs>
              <a:gs pos="100000">
                <a:srgbClr val="3b3784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Times New Roman"/>
              </a:rPr>
              <a:t>Way forward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15880" y="1676520"/>
            <a:ext cx="65851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Arial"/>
              </a:rPr>
              <a:t>Further implementation of </a:t>
            </a:r>
            <a:r>
              <a:rPr b="0" i="1" lang="fr-CA" sz="3200" spc="-1" strike="noStrike">
                <a:solidFill>
                  <a:srgbClr val="ffcc00"/>
                </a:solidFill>
                <a:latin typeface="Arial"/>
              </a:rPr>
              <a:t>GFSM 200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Further convergence with international accounting standards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(e.g., private public partnership, accounting conceptual framework, accrued earnings from equity investment,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p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rovisions and contingent liabilities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472A-D202-480F-86EF-076DDF61E52F}" type="slidenum">
              <a:t>8</a:t>
            </a:fld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8:25:48Z</dcterms:created>
  <dc:creator>llaliberte</dc:creator>
  <dc:description/>
  <dc:language>en-US</dc:language>
  <cp:lastModifiedBy>U.S. Department of Commerce</cp:lastModifiedBy>
  <dcterms:modified xsi:type="dcterms:W3CDTF">2006-10-11T14:33:19Z</dcterms:modified>
  <cp:revision>73</cp:revision>
  <dc:subject/>
  <dc:title>PARIS21 Task Team on Statistical Capacity Building (SCB) indica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51286172</vt:r8>
  </property>
  <property fmtid="{D5CDD505-2E9C-101B-9397-08002B2CF9AE}" pid="3" name="_AuthorEmail">
    <vt:lpwstr>Rebecca.Rider@bea.gov</vt:lpwstr>
  </property>
  <property fmtid="{D5CDD505-2E9C-101B-9397-08002B2CF9AE}" pid="4" name="_AuthorEmailDisplayName">
    <vt:lpwstr>Rider, Rebecca</vt:lpwstr>
  </property>
  <property fmtid="{D5CDD505-2E9C-101B-9397-08002B2CF9AE}" pid="5" name="_EmailEntryID">
    <vt:lpwstr>0000000093F707CE9035A84EA1A7649F1D173E43070014871F0AD125614C96749048C5E67D61000000675A3B000014871F0AD125614C96749048C5E67D61000001AE46530000</vt:lpwstr>
  </property>
  <property fmtid="{D5CDD505-2E9C-101B-9397-08002B2CF9AE}" pid="6" name="_EmailSubject">
    <vt:lpwstr>Updated File for Website</vt:lpwstr>
  </property>
  <property fmtid="{D5CDD505-2E9C-101B-9397-08002B2CF9AE}" pid="7" name="_NewReviewCycle">
    <vt:lpwstr/>
  </property>
  <property fmtid="{D5CDD505-2E9C-101B-9397-08002B2CF9AE}" pid="8" name="_PreviousAdHocReviewCycleID">
    <vt:r8>-1669222570</vt:r8>
  </property>
  <property fmtid="{D5CDD505-2E9C-101B-9397-08002B2CF9AE}" pid="9" name="_ReviewCycleID">
    <vt:r8>-277645073</vt:r8>
  </property>
  <property fmtid="{D5CDD505-2E9C-101B-9397-08002B2CF9AE}" pid="10" name="_TentativeReviewCycleID">
    <vt:r8>-277645073</vt:r8>
  </property>
</Properties>
</file>